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6.png" ContentType="image/png"/>
  <Override PartName="/ppt/media/image58.jpeg" ContentType="image/jpeg"/>
  <Override PartName="/ppt/media/image73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51.jpeg" ContentType="image/jpeg"/>
  <Override PartName="/ppt/media/image50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55.png" ContentType="image/png"/>
  <Override PartName="/ppt/media/image45.jpeg" ContentType="image/jpeg"/>
  <Override PartName="/ppt/media/image56.jpeg" ContentType="image/jpeg"/>
  <Override PartName="/ppt/media/image3.png" ContentType="image/png"/>
  <Override PartName="/ppt/media/image15.png" ContentType="image/png"/>
  <Override PartName="/ppt/media/image11.png" ContentType="image/png"/>
  <Override PartName="/ppt/media/image10.png" ContentType="image/png"/>
  <Override PartName="/ppt/media/image49.jpeg" ContentType="image/jpeg"/>
  <Override PartName="/ppt/media/image1.jpeg" ContentType="image/jpeg"/>
  <Override PartName="/ppt/media/image21.png" ContentType="image/png"/>
  <Override PartName="/ppt/media/image19.png" ContentType="image/png"/>
  <Override PartName="/ppt/media/image61.png" ContentType="image/png"/>
  <Override PartName="/ppt/media/image22.png" ContentType="image/png"/>
  <Override PartName="/ppt/media/image60.png" ContentType="image/png"/>
  <Override PartName="/ppt/media/image77.png" ContentType="image/png"/>
  <Override PartName="/ppt/media/image40.png" ContentType="image/png"/>
  <Override PartName="/ppt/media/image65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2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7.png" ContentType="image/png"/>
  <Override PartName="/ppt/media/image30.png" ContentType="image/png"/>
  <Override PartName="/ppt/media/image24.png" ContentType="image/png"/>
  <Override PartName="/ppt/media/image27.png" ContentType="image/png"/>
  <Override PartName="/ppt/media/image34.png" ContentType="image/png"/>
  <Override PartName="/ppt/media/image16.png" ContentType="image/png"/>
  <Override PartName="/ppt/media/image7.jpeg" ContentType="image/jpeg"/>
  <Override PartName="/ppt/media/image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44.jpeg" ContentType="image/jpeg"/>
  <Override PartName="/ppt/media/image38.png" ContentType="image/png"/>
  <Override PartName="/ppt/media/image9.jpeg" ContentType="image/jpeg"/>
  <Override PartName="/ppt/media/image36.png" ContentType="image/png"/>
  <Override PartName="/ppt/media/image20.png" ContentType="image/png"/>
  <Override PartName="/ppt/media/image12.png" ContentType="image/png"/>
  <Override PartName="/ppt/media/image33.png" ContentType="image/png"/>
  <Override PartName="/ppt/media/image54.jpeg" ContentType="image/jpeg"/>
  <Override PartName="/ppt/media/image31.png" ContentType="image/png"/>
  <Override PartName="/ppt/media/image37.png" ContentType="image/png"/>
  <Override PartName="/ppt/media/image39.png" ContentType="image/png"/>
  <Override PartName="/ppt/media/image66.png" ContentType="image/png"/>
  <Override PartName="/ppt/media/image41.jpeg" ContentType="image/jpeg"/>
  <Override PartName="/ppt/media/image42.png" ContentType="image/png"/>
  <Override PartName="/ppt/media/image43.png" ContentType="image/png"/>
  <Override PartName="/ppt/media/image57.jpeg" ContentType="image/jpeg"/>
  <Override PartName="/ppt/media/image6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8DAC-CFD0-4CC1-9B3F-8BE0744952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65C4-F7A1-42B5-9859-D9E6D02CBE6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65E7-4D74-4118-96B5-9F5FD50DCF3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59EE-030C-4A4F-B634-963FEC8205C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ACCB-62A6-47D2-ABA0-5420E9CF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546-A8DC-40D7-9C21-8282D4B1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AC230-9E9D-49C6-8537-B3DE92EC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42FF2-6483-4C21-81A4-1D3BF92D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559E5-7F12-45C4-A4A9-03155404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0227A-99F1-4090-9A71-75DBB28B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BA6A2-FAEF-4D41-986A-60D471AB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7AA8D-602E-478D-824E-55596498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4D925-2164-45DE-804B-9D7A536A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D4D59-8470-4325-907A-7B085A31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CEE17-8F97-41E3-9243-5FBB2FC5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6527A-C2A6-44D7-AD94-2FC37049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8A8-508E-42EA-ADD7-74B5553C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AD098-67B1-4FCF-A438-44C2F8D3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AEA91-ABDB-42ED-BCD2-F0B0E683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7D745-EAEF-4334-8AD9-6F33BA4A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983FC-65C7-41A5-8E08-E00B2BC4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F61A4-30F7-49BD-959C-BF8E7A43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350C9-1520-400A-85A5-831EB54A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BB20B-7758-4335-86FA-5FB72C56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EA90B-165C-493D-A7B1-A2347080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760C9-D7B5-4618-8BCE-91D4BBFE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FF35D-6E10-4808-9C8F-CAAF728E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A44-F83C-4649-A5F8-B8A2E51A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48B0F-2259-4F60-813E-777153D5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D95E-17E9-4E65-AC46-AF2D311B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0C1D-241D-42B6-A118-3C150FF5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E287-C72F-4724-BD1F-93DF744E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7C96-DE1C-4AAF-8DEE-5F7CF927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D50B-94D4-45BD-ADC4-158A665D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C57F-1B3A-4F0F-B786-C4E723CE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C833-934C-4264-8352-8526DFBA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413-A5E5-4803-83FF-78E070BB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8C98-2982-454B-8ACB-07CDBB97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9C08-5B85-4CFC-BDCD-11DD34BF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E5EB-62BC-476E-AA39-654747FD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5C93-B166-4A1A-8753-B7E21587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64E6-83E0-4A4B-9C62-E3AA6DE3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0705A-F94A-4557-BDEA-3C02C0DD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46205-7CD2-4224-880C-1F0CD666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2A3D0-9FE6-4BEE-8EFD-9EDF05F1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52EF3-424B-4E55-B9F3-A7ADA187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EA232-AFD0-4ED8-827F-A0B1D328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1A8E-6243-4843-8EF6-5BB7A520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D44F4-0D7F-4266-8A58-C68B2115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1DFEA-0D0D-4ADD-BEFB-E0500A3F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9A0F-36BC-4EEA-8183-9D087935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9CFAA-5FD3-46F9-B1AE-6137478E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483DF-1D31-4421-9920-05CFF659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7A37F-EFDB-42A2-8165-9DA60B20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4438F-C436-4791-B13E-F5AE6FCD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4508A-CC2F-46D4-A9C8-471975C6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6C8D5-ADE9-4790-B103-A4AF58CA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59531-A30A-46C5-8C6F-D2F49A1B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FE0-CB71-4D70-9013-6931AE40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2C9BB-47C6-4DDA-833D-FBA0496F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458F2-B103-4094-BAC6-85031336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C859B-B041-4526-ACB8-80027121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F1264-8CF0-476E-B02F-52AB8146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08583-2E2B-4E79-B190-3C21C24C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8BDB9-FDBC-4C5E-84CF-613475DE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2AF1D-2192-4720-8612-D454ABB6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96F67-8F02-4E55-AE40-07A19E0A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9BF6F-5239-44DB-983A-A03C4AE4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8DBA5-4648-4C96-B9F8-D136B957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D22-B618-4509-AD97-F354B774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E18BC-6D2A-43EA-A3C0-C1EACFD1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C6252-BA8A-48D8-B705-E1B4E00A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19179-E75B-41E1-A55B-D22F4F2C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1BF19-4F2E-454D-AC6D-2748AF5C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20BC8-A1F7-4A40-89FD-ECD1044F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29B91-37AC-4828-8D64-1A1B7F03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613F0-AF0D-4085-8381-FF6A54B0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2AAD8-54D4-4947-9638-5A5B119A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5A69F-D2E9-4026-A367-D9A0C066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32F59-6929-4518-AB18-291399F8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DFA-E568-4016-9E86-71F7B67F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4686E-871B-4954-8B4F-CB2A611C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26930-FA62-4E25-8262-E8876C3B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9595F-93A8-4198-8969-7F1F070D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754B8-EB67-49F2-91FA-389B401D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B9C8F-1434-4501-8FFD-C56FA3C5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B7BF3-B89D-4BB3-AC34-56B6ACAA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C7713-2C6D-47D1-9016-E4DDD948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90ACB-84A5-4EBA-B0CD-1B5D6C72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B2408-E3EC-4086-98F7-40560D07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44FCB-4933-4193-BF49-FFF1DE15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208-69AF-402C-AE3A-DA512579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D719A-7A5B-410C-B8C1-7E7CA4C3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3F587-8C16-49CF-A8E2-7C9F0E8F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FE637-1856-48E8-B893-5E788935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9C5BB-F17E-41B1-874C-267A5D31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79A56-A0D2-4E4B-8816-CD9AB5DE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4FC1C-86E0-4885-BCA1-DCB042A2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FA0D5-5103-4538-B9D0-3A0D473B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CA26E-4F5D-4E28-A6EC-41630046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A0B04-6872-4FC5-BBBA-31805F0E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A3189-12DA-4563-BDAF-B66E807D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24BF-E103-47DD-861D-A7BDAC07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52C25-628E-4022-A6F3-2D18299A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1DC42-EF17-4100-9819-B7F6DDEC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271F7-6D2B-431F-826C-8485F2FD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6C36C-43B0-44D4-B328-32888D2D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ED903-340A-4D0C-8A0B-05F89AF0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181E5-CC48-4EF5-9146-65983E20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64EB2-31A2-4A19-9856-3709B9E1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B88F3-5653-4349-BC8E-7933819C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87B6D-871B-4F85-AA41-49F693A8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9D266-23F3-4752-884E-FCE88549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16E-5987-4F0E-867D-37D31DF1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68EB9-C660-4438-8FB9-B540A87E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DC96F-08E5-4F59-ABEB-F58B34DD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C991E-49F3-48C7-99C6-C792D9A9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7B5FD-4957-4DB4-BFB0-E296B736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380EC-3FA5-41FC-8A66-930E305C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36D42-46FE-4872-A56C-805DA9B1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EE172-7DF7-4287-869A-216146C9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8B961-02BE-433F-9D49-A0B1BCCA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A1A66-4D40-4ECF-88AD-49545195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1576C-A85D-40A8-8A6D-DD6842F5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0CFB-9BB6-440B-8B69-549773205F7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1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92E6-11DA-462D-A5B0-8936C063E3A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3966-294E-4EB0-B018-78750617029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115E-92D3-4CEE-819D-DCA4F05B828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31A4-5D09-4FC9-B945-B66CF1A3A0B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45C0-75AA-4750-B8A1-9B91B2B4A5D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D68D-A49E-44D2-81E6-7BEECA898C6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D0EE-1B4A-4842-8DAD-606887A7E1D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2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dt" idx="2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8BED-7569-43CA-8855-A02E51DD48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2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dt" idx="2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F70E-14CC-49B7-A6A8-AC0827F8A7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image" Target="../media/image51.jpeg"/><Relationship Id="rId12" Type="http://schemas.openxmlformats.org/officeDocument/2006/relationships/image" Target="../media/image52.jpeg"/><Relationship Id="rId13" Type="http://schemas.openxmlformats.org/officeDocument/2006/relationships/image" Target="../media/image53.jpeg"/><Relationship Id="rId14" Type="http://schemas.openxmlformats.org/officeDocument/2006/relationships/image" Target="../media/image54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object 2"/>
          <p:cNvSpPr/>
          <p:nvPr/>
        </p:nvSpPr>
        <p:spPr>
          <a:xfrm>
            <a:off x="4192560" y="544680"/>
            <a:ext cx="905040" cy="383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object 4"/>
          <p:cNvSpPr/>
          <p:nvPr/>
        </p:nvSpPr>
        <p:spPr>
          <a:xfrm>
            <a:off x="4427640" y="209520"/>
            <a:ext cx="377640" cy="382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Прямоугольник 12"/>
          <p:cNvSpPr/>
          <p:nvPr/>
        </p:nvSpPr>
        <p:spPr>
          <a:xfrm>
            <a:off x="2286000" y="5257800"/>
            <a:ext cx="533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решения Совета народных депутатов Хохольского муниципального района от 31.03.2015 года №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Об исполнении районного бюджета за 2014 год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Прямоугольник 13"/>
          <p:cNvSpPr/>
          <p:nvPr/>
        </p:nvSpPr>
        <p:spPr>
          <a:xfrm>
            <a:off x="1219320" y="15228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Бюджет для граждан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3" name="Picture 2" descr="D:\здание администрации\DSCN0311.JPG"/>
          <p:cNvPicPr/>
          <p:nvPr/>
        </p:nvPicPr>
        <p:blipFill>
          <a:blip r:embed="rId3"/>
          <a:stretch/>
        </p:blipFill>
        <p:spPr>
          <a:xfrm>
            <a:off x="1995480" y="914400"/>
            <a:ext cx="59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6"/>
          <p:cNvSpPr/>
          <p:nvPr/>
        </p:nvSpPr>
        <p:spPr>
          <a:xfrm>
            <a:off x="1752480" y="533520"/>
            <a:ext cx="5943600" cy="459720"/>
          </a:xfrm>
          <a:prstGeom prst="rect">
            <a:avLst/>
          </a:prstGeom>
          <a:gradFill rotWithShape="0">
            <a:gsLst>
              <a:gs pos="0">
                <a:srgbClr val="3891a7"/>
              </a:gs>
              <a:gs pos="100000">
                <a:srgbClr val="1a43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Stencil"/>
              </a:rPr>
              <a:t>Налоговые доход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219320" y="1905120"/>
          <a:ext cx="7700760" cy="3763800"/>
        </p:xfrm>
        <a:graphic>
          <a:graphicData uri="http://schemas.openxmlformats.org/drawingml/2006/table">
            <a:tbl>
              <a:tblPr/>
              <a:tblGrid>
                <a:gridCol w="3778200"/>
                <a:gridCol w="1469880"/>
                <a:gridCol w="1193760"/>
                <a:gridCol w="1258920"/>
              </a:tblGrid>
              <a:tr h="37476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Stencil"/>
                        </a:rPr>
                        <a:t>Наименование 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4 год, тыс.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Stencil"/>
                        </a:rPr>
                        <a:t>Утвержденный пл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Stencil"/>
                        </a:rPr>
                        <a:t>Испол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Stencil"/>
                        </a:rPr>
                        <a:t>Процент ис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Всего 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85 3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87 18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0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Налог на доходы физических лиц  (НДФ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73 99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75 74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0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Единый налог на вмененный доход (ЕНД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7 87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7 93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0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87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86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9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2 5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2 59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0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Задолженность и перерасчеты по отмененным налогам, сборам и другим обязательным платеж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3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3"/>
          <p:cNvSpPr/>
          <p:nvPr/>
        </p:nvSpPr>
        <p:spPr>
          <a:xfrm>
            <a:off x="609480" y="762120"/>
            <a:ext cx="7010640" cy="459720"/>
          </a:xfrm>
          <a:prstGeom prst="rect">
            <a:avLst/>
          </a:prstGeom>
          <a:gradFill rotWithShape="0">
            <a:gsLst>
              <a:gs pos="0">
                <a:srgbClr val="3891a7"/>
              </a:gs>
              <a:gs pos="100000">
                <a:srgbClr val="1a43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Stencil"/>
              </a:rPr>
              <a:t>Неналоговые доход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304920" y="1447920"/>
          <a:ext cx="8534160" cy="4862520"/>
        </p:xfrm>
        <a:graphic>
          <a:graphicData uri="http://schemas.openxmlformats.org/drawingml/2006/table">
            <a:tbl>
              <a:tblPr/>
              <a:tblGrid>
                <a:gridCol w="4572000"/>
                <a:gridCol w="1523880"/>
                <a:gridCol w="1219320"/>
                <a:gridCol w="121896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tencil"/>
                        </a:rPr>
                        <a:t>Наименование 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 год, тыс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tencil"/>
                        </a:rPr>
                        <a:t>Утвержденный п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tencil"/>
                        </a:rPr>
                        <a:t>Испол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tencil"/>
                        </a:rPr>
                        <a:t>Процент ис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Всего неналоговые до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01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00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Проценты, полученные от предоставления бюджетных кредитов внутри стр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Доходы, получаемые в виде арендной платы за земельные участки, государственная собственность на которые не разграничена и которые расположены в граница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13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07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Доходы от сдачи в аренду имущества, находящегося в оперативном управлении органов управления муниципальных районов и созданных ими учреж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Доходы от перечисления части прибыли, остающейся после уплаты налогов и иных обязательных платежей муниципальных унитарных предприятий, созданных муниципальными райо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8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9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3"/>
          <p:cNvSpPr/>
          <p:nvPr/>
        </p:nvSpPr>
        <p:spPr>
          <a:xfrm>
            <a:off x="609480" y="762120"/>
            <a:ext cx="7010640" cy="459720"/>
          </a:xfrm>
          <a:prstGeom prst="rect">
            <a:avLst/>
          </a:prstGeom>
          <a:gradFill rotWithShape="0">
            <a:gsLst>
              <a:gs pos="0">
                <a:srgbClr val="3891a7"/>
              </a:gs>
              <a:gs pos="100000">
                <a:srgbClr val="1a43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Stencil"/>
              </a:rPr>
              <a:t>Неналоговые доходы</a:t>
            </a: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ffff"/>
                </a:solidFill>
                <a:latin typeface="Times New Roman"/>
              </a:rPr>
              <a:t>(продолжение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990720" y="1447920"/>
          <a:ext cx="7848360" cy="4387680"/>
        </p:xfrm>
        <a:graphic>
          <a:graphicData uri="http://schemas.openxmlformats.org/drawingml/2006/table">
            <a:tbl>
              <a:tblPr/>
              <a:tblGrid>
                <a:gridCol w="3886200"/>
                <a:gridCol w="1523880"/>
                <a:gridCol w="1219320"/>
                <a:gridCol w="1218960"/>
              </a:tblGrid>
              <a:tr h="30456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tencil"/>
                        </a:rPr>
                        <a:t>Наименование 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 год, тыс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tencil"/>
                        </a:rPr>
                        <a:t>Утвержденный п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tencil"/>
                        </a:rPr>
                        <a:t>Испол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tencil"/>
                        </a:rPr>
                        <a:t>Процент ис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1584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Доходы от реализации имущества, находящегося в государственной и муниципальной собственности (за исключением имущества бюджетных и автономных учреждений, а также имущества государственных и муниципальных унитарных предприятий, в том числе казенных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b1d15"/>
                          </a:solidFill>
                          <a:latin typeface="Arial"/>
                        </a:rPr>
                        <a:t>9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b1d15"/>
                          </a:solidFill>
                          <a:latin typeface="Arial"/>
                        </a:rPr>
                        <a:t>9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b1d15"/>
                          </a:solidFill>
                          <a:latin typeface="Times New Roman"/>
                        </a:rPr>
                        <a:t>10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Доходы от продажи земельных участков, государственная собственность на которые не разграничена и которые расположены в граница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b1d15"/>
                          </a:solidFill>
                          <a:latin typeface="Arial"/>
                        </a:rPr>
                        <a:t>3 80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b1d15"/>
                          </a:solidFill>
                          <a:latin typeface="Arial"/>
                        </a:rPr>
                        <a:t>3 89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b1d15"/>
                          </a:solidFill>
                          <a:latin typeface="Times New Roman"/>
                        </a:rPr>
                        <a:t>10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Штрафы, санкции, возмещение ущер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b1d15"/>
                          </a:solidFill>
                          <a:latin typeface="Arial"/>
                        </a:rPr>
                        <a:t>95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b1d15"/>
                          </a:solidFill>
                          <a:latin typeface="Arial"/>
                        </a:rPr>
                        <a:t>97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b1d15"/>
                          </a:solidFill>
                          <a:latin typeface="Times New Roman"/>
                        </a:rPr>
                        <a:t>10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b1d15"/>
                          </a:solidFill>
                          <a:latin typeface="Arial"/>
                        </a:rPr>
                        <a:t>28 65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b1d15"/>
                          </a:solidFill>
                          <a:latin typeface="Arial"/>
                        </a:rPr>
                        <a:t>29 53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b1d15"/>
                          </a:solidFill>
                          <a:latin typeface="Times New Roman"/>
                        </a:rPr>
                        <a:t>10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315200" cy="1371600"/>
          </a:xfrm>
          <a:prstGeom prst="rect">
            <a:avLst/>
          </a:prstGeom>
          <a:gradFill rotWithShape="0">
            <a:gsLst>
              <a:gs pos="0">
                <a:srgbClr val="feb80a"/>
              </a:gs>
              <a:gs pos="50000">
                <a:srgbClr val="ccecff"/>
              </a:gs>
              <a:gs pos="100000">
                <a:srgbClr val="feb80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271c"/>
                </a:solidFill>
                <a:latin typeface="Times New Roman"/>
              </a:rPr>
              <a:t>Динамика налоговых и неналоговых доходов </a:t>
            </a:r>
            <a:br>
              <a:rPr sz="2200"/>
            </a:br>
            <a:r>
              <a:rPr b="1" lang="ru-RU" sz="2200" spc="-1" strike="noStrike">
                <a:solidFill>
                  <a:srgbClr val="4f271c"/>
                </a:solidFill>
                <a:latin typeface="Times New Roman"/>
              </a:rPr>
              <a:t>2013-2014 годы </a:t>
            </a:r>
            <a:br>
              <a:rPr sz="2200"/>
            </a:br>
            <a:r>
              <a:rPr b="1" lang="ru-RU" sz="2200" spc="-1" strike="noStrike">
                <a:solidFill>
                  <a:srgbClr val="4f271c"/>
                </a:solidFill>
                <a:latin typeface="Times New Roman"/>
              </a:rPr>
              <a:t>(абсолютные показатели, тыс.рублей)</a:t>
            </a: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62" name="Object 4" descr=""/>
          <p:cNvPicPr/>
          <p:nvPr/>
        </p:nvPicPr>
        <p:blipFill>
          <a:blip r:embed="rId1"/>
          <a:stretch/>
        </p:blipFill>
        <p:spPr>
          <a:xfrm>
            <a:off x="533520" y="2238480"/>
            <a:ext cx="776592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3"/>
          <p:cNvSpPr/>
          <p:nvPr/>
        </p:nvSpPr>
        <p:spPr>
          <a:xfrm>
            <a:off x="1143000" y="304920"/>
            <a:ext cx="6553080" cy="459720"/>
          </a:xfrm>
          <a:prstGeom prst="rect">
            <a:avLst/>
          </a:prstGeom>
          <a:gradFill rotWithShape="0">
            <a:gsLst>
              <a:gs pos="0">
                <a:srgbClr val="3891a7"/>
              </a:gs>
              <a:gs pos="100000">
                <a:srgbClr val="1a43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Times New Roman"/>
              </a:rPr>
              <a:t>Безвозмездные поступл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219320" y="990720"/>
          <a:ext cx="7696080" cy="5638680"/>
        </p:xfrm>
        <a:graphic>
          <a:graphicData uri="http://schemas.openxmlformats.org/drawingml/2006/table">
            <a:tbl>
              <a:tblPr/>
              <a:tblGrid>
                <a:gridCol w="3124080"/>
                <a:gridCol w="1722600"/>
                <a:gridCol w="1477800"/>
                <a:gridCol w="1371600"/>
              </a:tblGrid>
              <a:tr h="40140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tencil"/>
                        </a:rPr>
                        <a:t>Наименование 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 год, тыс.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tencil"/>
                        </a:rPr>
                        <a:t>Утвержденный пл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tencil"/>
                        </a:rPr>
                        <a:t>Испол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tencil"/>
                        </a:rPr>
                        <a:t>Процент ис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67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Всего безвозмездные поступления</a:t>
                      </a:r>
                      <a:r>
                        <a:rPr b="1" lang="ru-RU" sz="18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476 14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475 45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9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Дотации</a:t>
                      </a:r>
                      <a:r>
                        <a:rPr b="1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6 99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6 99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Субсидии</a:t>
                      </a:r>
                      <a:r>
                        <a:rPr b="1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212 40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212 40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9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Субвенции</a:t>
                      </a:r>
                      <a:r>
                        <a:rPr b="1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85 78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85 64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9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Иные межбюджетные трансферты (из областного бюджета)</a:t>
                      </a:r>
                      <a:r>
                        <a:rPr b="1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2 89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2 87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9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Иные межбюджетные трансферты (от сельских поселений)</a:t>
                      </a:r>
                      <a:r>
                        <a:rPr b="1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4 73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4 73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9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Прочие безвозмездные (спонсорские)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53 34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53 34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Возврат остатков субсидий, субвенций и иных межбюджетных трансфертов, имеющих целевое назначение, прошлых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-54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757224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Динамика ПОСТУПЛЕНИЯ безвозмездных поступлений в районный бюджет </a:t>
            </a:r>
            <a:br>
              <a:rPr sz="1800"/>
            </a:br>
            <a:r>
              <a:rPr b="0" lang="ru-RU" sz="1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за</a:t>
            </a:r>
            <a:r>
              <a:rPr b="0" lang="ru-RU" sz="18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  2013-2014 </a:t>
            </a:r>
            <a:r>
              <a:rPr b="0" lang="ru-RU" sz="1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годы</a:t>
            </a:r>
            <a:r>
              <a:rPr b="0" lang="ru-RU" sz="18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(млн. руб.)</a:t>
            </a:r>
            <a:endParaRPr b="0" lang="en-US" sz="1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66" name="Содержимое 6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4"/>
          <p:cNvSpPr/>
          <p:nvPr/>
        </p:nvSpPr>
        <p:spPr>
          <a:xfrm>
            <a:off x="0" y="3808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271c"/>
                </a:solidFill>
                <a:latin typeface="Tahoma"/>
              </a:rPr>
              <a:t>2.Исполнение по расходам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3"/>
          <p:cNvSpPr/>
          <p:nvPr/>
        </p:nvSpPr>
        <p:spPr>
          <a:xfrm>
            <a:off x="266760" y="990720"/>
            <a:ext cx="8610480" cy="581400"/>
          </a:xfrm>
          <a:prstGeom prst="rect">
            <a:avLst/>
          </a:prstGeom>
          <a:gradFill rotWithShape="0">
            <a:gsLst>
              <a:gs pos="0">
                <a:srgbClr val="3891a7"/>
              </a:gs>
              <a:gs pos="100000">
                <a:srgbClr val="1a43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Муниципальные пр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457200" y="2185920"/>
          <a:ext cx="8229600" cy="3681360"/>
        </p:xfrm>
        <a:graphic>
          <a:graphicData uri="http://schemas.openxmlformats.org/drawingml/2006/table">
            <a:tbl>
              <a:tblPr/>
              <a:tblGrid>
                <a:gridCol w="684360"/>
                <a:gridCol w="6188040"/>
                <a:gridCol w="1357200"/>
              </a:tblGrid>
              <a:tr h="662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bf3"/>
                        </a:gs>
                        <a:gs pos="100000">
                          <a:srgbClr val="ffea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униципальной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bf3"/>
                        </a:gs>
                        <a:gs pos="100000">
                          <a:srgbClr val="ffea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  тыс.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bf3"/>
                        </a:gs>
                        <a:gs pos="100000">
                          <a:srgbClr val="ffeab6"/>
                        </a:gs>
                      </a:gsLst>
                      <a:lin ang="5400000"/>
                    </a:gradFill>
                  </a:tcPr>
                </a:tc>
              </a:tr>
              <a:tr h="1114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"Муниципальное управление, управление муниципальными финансами, создание условий для эффективного развития конкурентноспособной экономики Хохольского муниципального района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 45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"Развитие образования, культуры и спорта в Хохольском муниципальном районе на 2014-2020 годы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5 40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85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"Обеспечение доступным и комфортным жильём и коммунальными услугами населения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92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"Повышение энергоэффективности и развитие энергетики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5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7d42"/>
                </a:solidFill>
                <a:latin typeface="Times New Roman"/>
                <a:ea typeface="Times New Roman"/>
              </a:rPr>
              <a:t>Структура  расходов в рамках программно-целевого финансирования по видам бюджетов за 2014 год </a:t>
            </a:r>
            <a:r>
              <a:rPr b="1" lang="ru-RU" sz="1600" spc="-1" strike="noStrike">
                <a:solidFill>
                  <a:srgbClr val="967d42"/>
                </a:solidFill>
                <a:latin typeface="Times New Roman"/>
                <a:ea typeface="Times New Roman"/>
              </a:rPr>
              <a:t>(тыс.руб.)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71" name="Содержимое 6" descr=""/>
          <p:cNvPicPr/>
          <p:nvPr/>
        </p:nvPicPr>
        <p:blipFill>
          <a:blip r:embed="rId1"/>
          <a:stretch/>
        </p:blipFill>
        <p:spPr>
          <a:xfrm>
            <a:off x="581040" y="1360440"/>
            <a:ext cx="7696080" cy="500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object 3"/>
          <p:cNvSpPr/>
          <p:nvPr/>
        </p:nvSpPr>
        <p:spPr>
          <a:xfrm>
            <a:off x="3924360" y="5661000"/>
            <a:ext cx="1017360" cy="83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object 4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9400" y="47520"/>
            <a:ext cx="88452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0" bIns="0" anchor="ctr">
            <a:noAutofit/>
          </a:bodyPr>
          <a:p>
            <a:pPr marL="198900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ill Sans MT"/>
              </a:rPr>
              <a:t>Куда расходуются средства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районного </a:t>
            </a:r>
            <a:r>
              <a:rPr b="0" lang="ru-RU" sz="2000" spc="-1" strike="noStrike">
                <a:solidFill>
                  <a:srgbClr val="ffffff"/>
                </a:solidFill>
                <a:latin typeface="Gill Sans MT"/>
              </a:rPr>
              <a:t>бюджета?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5" name="object 6"/>
          <p:cNvSpPr/>
          <p:nvPr/>
        </p:nvSpPr>
        <p:spPr>
          <a:xfrm>
            <a:off x="395280" y="1339920"/>
            <a:ext cx="1873080" cy="1407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object 7"/>
          <p:cNvSpPr/>
          <p:nvPr/>
        </p:nvSpPr>
        <p:spPr>
          <a:xfrm>
            <a:off x="1042920" y="620640"/>
            <a:ext cx="577800" cy="576360"/>
          </a:xfrm>
          <a:custGeom>
            <a:avLst/>
            <a:gdLst>
              <a:gd name="textAreaLeft" fmla="*/ 0 w 577800"/>
              <a:gd name="textAreaRight" fmla="*/ 578160 w 577800"/>
              <a:gd name="textAreaTop" fmla="*/ 0 h 576360"/>
              <a:gd name="textAreaBottom" fmla="*/ 576360 h 576360"/>
            </a:gdLst>
            <a:ahLst/>
            <a:rect l="textAreaLeft" t="textAreaTop" r="textAreaRight" b="textAreaBottom"/>
            <a:pathLst>
              <a:path w="576580" h="576580">
                <a:moveTo>
                  <a:pt x="432257" y="144145"/>
                </a:moveTo>
                <a:lnTo>
                  <a:pt x="144068" y="144145"/>
                </a:lnTo>
                <a:lnTo>
                  <a:pt x="144068" y="576326"/>
                </a:lnTo>
                <a:lnTo>
                  <a:pt x="432257" y="576326"/>
                </a:lnTo>
                <a:lnTo>
                  <a:pt x="432257" y="144145"/>
                </a:lnTo>
                <a:close/>
              </a:path>
              <a:path w="576580" h="576580">
                <a:moveTo>
                  <a:pt x="288112" y="0"/>
                </a:moveTo>
                <a:lnTo>
                  <a:pt x="0" y="144145"/>
                </a:lnTo>
                <a:lnTo>
                  <a:pt x="576275" y="144145"/>
                </a:lnTo>
                <a:lnTo>
                  <a:pt x="288112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object 8"/>
          <p:cNvSpPr/>
          <p:nvPr/>
        </p:nvSpPr>
        <p:spPr>
          <a:xfrm>
            <a:off x="1042920" y="620640"/>
            <a:ext cx="577800" cy="576360"/>
          </a:xfrm>
          <a:custGeom>
            <a:avLst/>
            <a:gdLst>
              <a:gd name="textAreaLeft" fmla="*/ 0 w 577800"/>
              <a:gd name="textAreaRight" fmla="*/ 578160 w 577800"/>
              <a:gd name="textAreaTop" fmla="*/ 0 h 576360"/>
              <a:gd name="textAreaBottom" fmla="*/ 576360 h 576360"/>
            </a:gdLst>
            <a:ahLst/>
            <a:rect l="textAreaLeft" t="textAreaTop" r="textAreaRight" b="textAreaBottom"/>
            <a:pathLst>
              <a:path w="576580" h="576580">
                <a:moveTo>
                  <a:pt x="0" y="144145"/>
                </a:moveTo>
                <a:lnTo>
                  <a:pt x="288112" y="0"/>
                </a:lnTo>
                <a:lnTo>
                  <a:pt x="576275" y="144145"/>
                </a:lnTo>
                <a:lnTo>
                  <a:pt x="432257" y="144145"/>
                </a:lnTo>
                <a:lnTo>
                  <a:pt x="432257" y="576326"/>
                </a:lnTo>
                <a:lnTo>
                  <a:pt x="144068" y="576326"/>
                </a:lnTo>
                <a:lnTo>
                  <a:pt x="144068" y="144145"/>
                </a:lnTo>
                <a:lnTo>
                  <a:pt x="0" y="14414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object 9"/>
          <p:cNvSpPr/>
          <p:nvPr/>
        </p:nvSpPr>
        <p:spPr>
          <a:xfrm>
            <a:off x="1981080" y="1023840"/>
            <a:ext cx="6705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1925640"/>
                <a:tab algn="l" pos="2471760"/>
                <a:tab algn="l" pos="3659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лачиваем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 районно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еж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1925640"/>
                <a:tab algn="l" pos="2471760"/>
                <a:tab algn="l" pos="3659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ся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АМИ БЮДЖЕ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object 10"/>
          <p:cNvSpPr/>
          <p:nvPr/>
        </p:nvSpPr>
        <p:spPr>
          <a:xfrm>
            <a:off x="7589880" y="1023840"/>
            <a:ext cx="86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object 11"/>
          <p:cNvSpPr/>
          <p:nvPr/>
        </p:nvSpPr>
        <p:spPr>
          <a:xfrm>
            <a:off x="609480" y="2743200"/>
            <a:ext cx="1295640" cy="1096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object 12"/>
          <p:cNvSpPr/>
          <p:nvPr/>
        </p:nvSpPr>
        <p:spPr>
          <a:xfrm>
            <a:off x="2438280" y="3276720"/>
            <a:ext cx="990720" cy="6094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object 13"/>
          <p:cNvSpPr/>
          <p:nvPr/>
        </p:nvSpPr>
        <p:spPr>
          <a:xfrm>
            <a:off x="5257800" y="2362320"/>
            <a:ext cx="792000" cy="7207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object 15"/>
          <p:cNvSpPr/>
          <p:nvPr/>
        </p:nvSpPr>
        <p:spPr>
          <a:xfrm>
            <a:off x="6659640" y="2997360"/>
            <a:ext cx="792000" cy="71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object 16"/>
          <p:cNvSpPr/>
          <p:nvPr/>
        </p:nvSpPr>
        <p:spPr>
          <a:xfrm>
            <a:off x="609480" y="3733920"/>
            <a:ext cx="916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31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бразование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object 18"/>
          <p:cNvSpPr/>
          <p:nvPr/>
        </p:nvSpPr>
        <p:spPr>
          <a:xfrm>
            <a:off x="6172200" y="2438280"/>
            <a:ext cx="2344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физическую культуру и спорт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object 19"/>
          <p:cNvSpPr/>
          <p:nvPr/>
        </p:nvSpPr>
        <p:spPr>
          <a:xfrm>
            <a:off x="6748560" y="3701880"/>
            <a:ext cx="6890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ультуру, киномато- графию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object 20"/>
          <p:cNvSpPr/>
          <p:nvPr/>
        </p:nvSpPr>
        <p:spPr>
          <a:xfrm>
            <a:off x="1600200" y="3809880"/>
            <a:ext cx="91440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циальную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к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object 21"/>
          <p:cNvSpPr/>
          <p:nvPr/>
        </p:nvSpPr>
        <p:spPr>
          <a:xfrm>
            <a:off x="3657600" y="2438280"/>
            <a:ext cx="9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бщегосу дарствен ные вопросы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object 22"/>
          <p:cNvSpPr/>
          <p:nvPr/>
        </p:nvSpPr>
        <p:spPr>
          <a:xfrm>
            <a:off x="2227320" y="5646600"/>
            <a:ext cx="94464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циональ- ную экономик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object 23"/>
          <p:cNvSpPr/>
          <p:nvPr/>
        </p:nvSpPr>
        <p:spPr>
          <a:xfrm>
            <a:off x="6818400" y="5788080"/>
            <a:ext cx="62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-1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жилищно- коммунал ьное хозяйство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object 24"/>
          <p:cNvSpPr/>
          <p:nvPr/>
        </p:nvSpPr>
        <p:spPr>
          <a:xfrm>
            <a:off x="5769000" y="5214960"/>
            <a:ext cx="7030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28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храну окружаю- щей среды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object 26"/>
          <p:cNvSpPr/>
          <p:nvPr/>
        </p:nvSpPr>
        <p:spPr>
          <a:xfrm>
            <a:off x="7893000" y="5497560"/>
            <a:ext cx="992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бслуживание государственного и муниципального долга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object 27"/>
          <p:cNvSpPr/>
          <p:nvPr/>
        </p:nvSpPr>
        <p:spPr>
          <a:xfrm>
            <a:off x="4809960" y="5952960"/>
            <a:ext cx="8906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едоставление межбюджетных трансфертов общего характера бюджетам муниципальных образований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object 28"/>
          <p:cNvSpPr/>
          <p:nvPr/>
        </p:nvSpPr>
        <p:spPr>
          <a:xfrm>
            <a:off x="5651640" y="4508640"/>
            <a:ext cx="865080" cy="72072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object 30"/>
          <p:cNvSpPr/>
          <p:nvPr/>
        </p:nvSpPr>
        <p:spPr>
          <a:xfrm>
            <a:off x="6732720" y="5013360"/>
            <a:ext cx="792000" cy="71928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object 31"/>
          <p:cNvSpPr/>
          <p:nvPr/>
        </p:nvSpPr>
        <p:spPr>
          <a:xfrm>
            <a:off x="2819520" y="2286000"/>
            <a:ext cx="792000" cy="72072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bject 32"/>
          <p:cNvSpPr/>
          <p:nvPr/>
        </p:nvSpPr>
        <p:spPr>
          <a:xfrm>
            <a:off x="2124000" y="4572000"/>
            <a:ext cx="1152720" cy="99072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bject 33"/>
          <p:cNvSpPr/>
          <p:nvPr/>
        </p:nvSpPr>
        <p:spPr>
          <a:xfrm>
            <a:off x="7885080" y="4653000"/>
            <a:ext cx="1008000" cy="792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bject 34"/>
          <p:cNvSpPr/>
          <p:nvPr/>
        </p:nvSpPr>
        <p:spPr>
          <a:xfrm>
            <a:off x="806400" y="6145200"/>
            <a:ext cx="97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циональную безопасность и правоохранитель- ную  деятельность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bject 35"/>
          <p:cNvSpPr/>
          <p:nvPr/>
        </p:nvSpPr>
        <p:spPr>
          <a:xfrm>
            <a:off x="826920" y="5589720"/>
            <a:ext cx="865440" cy="57600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bject 36"/>
          <p:cNvSpPr/>
          <p:nvPr/>
        </p:nvSpPr>
        <p:spPr>
          <a:xfrm>
            <a:off x="3581280" y="3581280"/>
            <a:ext cx="1698840" cy="164808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bject 37"/>
          <p:cNvSpPr/>
          <p:nvPr/>
        </p:nvSpPr>
        <p:spPr>
          <a:xfrm>
            <a:off x="5257800" y="4114800"/>
            <a:ext cx="216000" cy="576360"/>
          </a:xfrm>
          <a:custGeom>
            <a:avLst/>
            <a:gdLst>
              <a:gd name="textAreaLeft" fmla="*/ 0 w 216000"/>
              <a:gd name="textAreaRight" fmla="*/ 216360 w 216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535" h="576579">
                <a:moveTo>
                  <a:pt x="107950" y="0"/>
                </a:moveTo>
                <a:lnTo>
                  <a:pt x="107950" y="144018"/>
                </a:lnTo>
                <a:lnTo>
                  <a:pt x="0" y="144018"/>
                </a:lnTo>
                <a:lnTo>
                  <a:pt x="0" y="432054"/>
                </a:lnTo>
                <a:lnTo>
                  <a:pt x="107950" y="432054"/>
                </a:lnTo>
                <a:lnTo>
                  <a:pt x="107950" y="576072"/>
                </a:lnTo>
                <a:lnTo>
                  <a:pt x="216026" y="288036"/>
                </a:lnTo>
                <a:lnTo>
                  <a:pt x="107950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object 38"/>
          <p:cNvSpPr/>
          <p:nvPr/>
        </p:nvSpPr>
        <p:spPr>
          <a:xfrm>
            <a:off x="5257800" y="4114800"/>
            <a:ext cx="216000" cy="576360"/>
          </a:xfrm>
          <a:custGeom>
            <a:avLst/>
            <a:gdLst>
              <a:gd name="textAreaLeft" fmla="*/ 0 w 216000"/>
              <a:gd name="textAreaRight" fmla="*/ 216360 w 216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535" h="576579">
                <a:moveTo>
                  <a:pt x="0" y="144018"/>
                </a:moveTo>
                <a:lnTo>
                  <a:pt x="107950" y="144018"/>
                </a:lnTo>
                <a:lnTo>
                  <a:pt x="107950" y="0"/>
                </a:lnTo>
                <a:lnTo>
                  <a:pt x="216026" y="288036"/>
                </a:lnTo>
                <a:lnTo>
                  <a:pt x="107950" y="576072"/>
                </a:lnTo>
                <a:lnTo>
                  <a:pt x="107950" y="432054"/>
                </a:lnTo>
                <a:lnTo>
                  <a:pt x="0" y="432054"/>
                </a:lnTo>
                <a:lnTo>
                  <a:pt x="0" y="144018"/>
                </a:lnTo>
                <a:close/>
              </a:path>
            </a:pathLst>
          </a:custGeom>
          <a:noFill/>
          <a:ln w="25560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object 39"/>
          <p:cNvSpPr/>
          <p:nvPr/>
        </p:nvSpPr>
        <p:spPr>
          <a:xfrm>
            <a:off x="3276720" y="4508640"/>
            <a:ext cx="330120" cy="485640"/>
          </a:xfrm>
          <a:custGeom>
            <a:avLst/>
            <a:gdLst>
              <a:gd name="textAreaLeft" fmla="*/ 0 w 330120"/>
              <a:gd name="textAreaRight" fmla="*/ 330480 w 3301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330835" h="485139">
                <a:moveTo>
                  <a:pt x="165226" y="0"/>
                </a:moveTo>
                <a:lnTo>
                  <a:pt x="0" y="242315"/>
                </a:lnTo>
                <a:lnTo>
                  <a:pt x="165226" y="484631"/>
                </a:lnTo>
                <a:lnTo>
                  <a:pt x="165226" y="363473"/>
                </a:lnTo>
                <a:lnTo>
                  <a:pt x="330326" y="363473"/>
                </a:lnTo>
                <a:lnTo>
                  <a:pt x="330326" y="121157"/>
                </a:lnTo>
                <a:lnTo>
                  <a:pt x="165226" y="121157"/>
                </a:lnTo>
                <a:lnTo>
                  <a:pt x="165226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bject 40"/>
          <p:cNvSpPr/>
          <p:nvPr/>
        </p:nvSpPr>
        <p:spPr>
          <a:xfrm>
            <a:off x="3276720" y="4508640"/>
            <a:ext cx="330120" cy="485640"/>
          </a:xfrm>
          <a:custGeom>
            <a:avLst/>
            <a:gdLst>
              <a:gd name="textAreaLeft" fmla="*/ 0 w 330120"/>
              <a:gd name="textAreaRight" fmla="*/ 330480 w 3301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330835" h="485139">
                <a:moveTo>
                  <a:pt x="0" y="242315"/>
                </a:moveTo>
                <a:lnTo>
                  <a:pt x="165226" y="0"/>
                </a:lnTo>
                <a:lnTo>
                  <a:pt x="165226" y="121157"/>
                </a:lnTo>
                <a:lnTo>
                  <a:pt x="330326" y="121157"/>
                </a:lnTo>
                <a:lnTo>
                  <a:pt x="330326" y="363473"/>
                </a:lnTo>
                <a:lnTo>
                  <a:pt x="165226" y="363473"/>
                </a:lnTo>
                <a:lnTo>
                  <a:pt x="165226" y="484631"/>
                </a:lnTo>
                <a:lnTo>
                  <a:pt x="0" y="242315"/>
                </a:lnTo>
                <a:close/>
              </a:path>
            </a:pathLst>
          </a:custGeom>
          <a:noFill/>
          <a:ln w="25560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object 41"/>
          <p:cNvSpPr/>
          <p:nvPr/>
        </p:nvSpPr>
        <p:spPr>
          <a:xfrm>
            <a:off x="4038480" y="3200400"/>
            <a:ext cx="576360" cy="258840"/>
          </a:xfrm>
          <a:custGeom>
            <a:avLst/>
            <a:gdLst>
              <a:gd name="textAreaLeft" fmla="*/ 0 w 576360"/>
              <a:gd name="textAreaRight" fmla="*/ 576720 w 5763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576579" h="258445">
                <a:moveTo>
                  <a:pt x="432054" y="129159"/>
                </a:moveTo>
                <a:lnTo>
                  <a:pt x="144018" y="129159"/>
                </a:lnTo>
                <a:lnTo>
                  <a:pt x="144018" y="258318"/>
                </a:lnTo>
                <a:lnTo>
                  <a:pt x="432054" y="258318"/>
                </a:lnTo>
                <a:lnTo>
                  <a:pt x="432054" y="129159"/>
                </a:lnTo>
                <a:close/>
              </a:path>
              <a:path w="576579" h="258445">
                <a:moveTo>
                  <a:pt x="288036" y="0"/>
                </a:moveTo>
                <a:lnTo>
                  <a:pt x="0" y="129159"/>
                </a:lnTo>
                <a:lnTo>
                  <a:pt x="576072" y="129159"/>
                </a:lnTo>
                <a:lnTo>
                  <a:pt x="288036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object 42"/>
          <p:cNvSpPr/>
          <p:nvPr/>
        </p:nvSpPr>
        <p:spPr>
          <a:xfrm>
            <a:off x="4038480" y="3200400"/>
            <a:ext cx="576360" cy="258840"/>
          </a:xfrm>
          <a:custGeom>
            <a:avLst/>
            <a:gdLst>
              <a:gd name="textAreaLeft" fmla="*/ 0 w 576360"/>
              <a:gd name="textAreaRight" fmla="*/ 576720 w 5763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576579" h="258445">
                <a:moveTo>
                  <a:pt x="0" y="129159"/>
                </a:moveTo>
                <a:lnTo>
                  <a:pt x="288036" y="0"/>
                </a:lnTo>
                <a:lnTo>
                  <a:pt x="576072" y="129159"/>
                </a:lnTo>
                <a:lnTo>
                  <a:pt x="432054" y="129159"/>
                </a:lnTo>
                <a:lnTo>
                  <a:pt x="432054" y="258318"/>
                </a:lnTo>
                <a:lnTo>
                  <a:pt x="144018" y="258318"/>
                </a:lnTo>
                <a:lnTo>
                  <a:pt x="144018" y="129159"/>
                </a:lnTo>
                <a:lnTo>
                  <a:pt x="0" y="129159"/>
                </a:lnTo>
                <a:close/>
              </a:path>
            </a:pathLst>
          </a:custGeom>
          <a:noFill/>
          <a:ln w="25560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object 43"/>
          <p:cNvSpPr/>
          <p:nvPr/>
        </p:nvSpPr>
        <p:spPr>
          <a:xfrm>
            <a:off x="4067280" y="5229360"/>
            <a:ext cx="577800" cy="288720"/>
          </a:xfrm>
          <a:custGeom>
            <a:avLst/>
            <a:gdLst>
              <a:gd name="textAreaLeft" fmla="*/ 0 w 577800"/>
              <a:gd name="textAreaRight" fmla="*/ 578160 w 5778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576579" h="288289">
                <a:moveTo>
                  <a:pt x="576072" y="144018"/>
                </a:moveTo>
                <a:lnTo>
                  <a:pt x="0" y="144018"/>
                </a:lnTo>
                <a:lnTo>
                  <a:pt x="288036" y="288036"/>
                </a:lnTo>
                <a:lnTo>
                  <a:pt x="576072" y="144018"/>
                </a:lnTo>
                <a:close/>
              </a:path>
              <a:path w="576579" h="288289">
                <a:moveTo>
                  <a:pt x="432053" y="0"/>
                </a:moveTo>
                <a:lnTo>
                  <a:pt x="144017" y="0"/>
                </a:lnTo>
                <a:lnTo>
                  <a:pt x="144017" y="144018"/>
                </a:lnTo>
                <a:lnTo>
                  <a:pt x="432053" y="144018"/>
                </a:lnTo>
                <a:lnTo>
                  <a:pt x="432053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bject 44"/>
          <p:cNvSpPr/>
          <p:nvPr/>
        </p:nvSpPr>
        <p:spPr>
          <a:xfrm>
            <a:off x="4067280" y="5229360"/>
            <a:ext cx="577800" cy="288720"/>
          </a:xfrm>
          <a:custGeom>
            <a:avLst/>
            <a:gdLst>
              <a:gd name="textAreaLeft" fmla="*/ 0 w 577800"/>
              <a:gd name="textAreaRight" fmla="*/ 578160 w 5778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576579" h="288289">
                <a:moveTo>
                  <a:pt x="0" y="144018"/>
                </a:moveTo>
                <a:lnTo>
                  <a:pt x="144017" y="144018"/>
                </a:lnTo>
                <a:lnTo>
                  <a:pt x="144017" y="0"/>
                </a:lnTo>
                <a:lnTo>
                  <a:pt x="432053" y="0"/>
                </a:lnTo>
                <a:lnTo>
                  <a:pt x="432053" y="144018"/>
                </a:lnTo>
                <a:lnTo>
                  <a:pt x="576072" y="144018"/>
                </a:lnTo>
                <a:lnTo>
                  <a:pt x="288036" y="288036"/>
                </a:lnTo>
                <a:lnTo>
                  <a:pt x="0" y="144018"/>
                </a:lnTo>
                <a:close/>
              </a:path>
            </a:pathLst>
          </a:custGeom>
          <a:noFill/>
          <a:ln w="25560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object 45"/>
          <p:cNvSpPr/>
          <p:nvPr/>
        </p:nvSpPr>
        <p:spPr>
          <a:xfrm>
            <a:off x="874800" y="2200320"/>
            <a:ext cx="984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4"/>
          <p:cNvSpPr/>
          <p:nvPr/>
        </p:nvSpPr>
        <p:spPr>
          <a:xfrm>
            <a:off x="0" y="189000"/>
            <a:ext cx="91440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a8a14"/>
                </a:solidFill>
                <a:latin typeface="Arial"/>
              </a:rPr>
              <a:t>Решенные цели и задачи при исполнении бюджета Хохольского муниципального район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17784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3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17784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3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Обеспечены действующие социальны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17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обязательства перед населением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17784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3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Частичная реализация программного  бюджет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17784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3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Продолжена практика стимулирования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17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поддержки муниципальных образований район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17784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3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Осуществлено повышение социального благосостояния и качества жизни граждан  для устойчивого развития и модернизации экономики района,  реализована взвешенная долговая полити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17784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3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Обеспечиваются условия для оказания качественных муниципальных услу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17784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3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Реализуются мероприятия, направленные на обеспечение прозрачности и открытости бюджетного процесс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17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17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лава администрации района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П.В.Пономарев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5" name="Picture 3" descr="герб2"/>
          <p:cNvPicPr/>
          <p:nvPr/>
        </p:nvPicPr>
        <p:blipFill>
          <a:blip r:embed="rId1"/>
          <a:stretch/>
        </p:blipFill>
        <p:spPr>
          <a:xfrm>
            <a:off x="228600" y="228600"/>
            <a:ext cx="928800" cy="115416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3" descr="01.jpg"/>
          <p:cNvPicPr/>
          <p:nvPr/>
        </p:nvPicPr>
        <p:blipFill>
          <a:blip r:embed="rId2"/>
          <a:stretch/>
        </p:blipFill>
        <p:spPr>
          <a:xfrm>
            <a:off x="5715000" y="1066680"/>
            <a:ext cx="25909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1" name=""/>
          <p:cNvGraphicFramePr/>
          <p:nvPr/>
        </p:nvGraphicFramePr>
        <p:xfrm>
          <a:off x="228600" y="1752480"/>
          <a:ext cx="8686800" cy="4937400"/>
        </p:xfrm>
        <a:graphic>
          <a:graphicData uri="http://schemas.openxmlformats.org/drawingml/2006/table">
            <a:tbl>
              <a:tblPr/>
              <a:tblGrid>
                <a:gridCol w="4191120"/>
                <a:gridCol w="761760"/>
                <a:gridCol w="1295640"/>
                <a:gridCol w="1218960"/>
                <a:gridCol w="1219320"/>
              </a:tblGrid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50000">
                          <a:srgbClr val="99ccff"/>
                        </a:gs>
                        <a:gs pos="100000">
                          <a:srgbClr val="ccecff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50000">
                          <a:srgbClr val="99ccff"/>
                        </a:gs>
                        <a:gs pos="100000">
                          <a:srgbClr val="ccec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2014 год, тыс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50000">
                          <a:srgbClr val="99ccff"/>
                        </a:gs>
                        <a:gs pos="100000">
                          <a:srgbClr val="ccec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Процент ис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50000">
                          <a:srgbClr val="99ccff"/>
                        </a:gs>
                        <a:gs pos="100000">
                          <a:srgbClr val="ccecff"/>
                        </a:gs>
                      </a:gsLst>
                      <a:lin ang="5400000"/>
                    </a:gra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Уточненный п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50000">
                          <a:srgbClr val="99ccff"/>
                        </a:gs>
                        <a:gs pos="100000">
                          <a:srgbClr val="cce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50000">
                          <a:srgbClr val="99ccff"/>
                        </a:gs>
                        <a:gs pos="100000">
                          <a:srgbClr val="ccecff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Всего расходов, в том чис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712 49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685 33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9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38 35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38 35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8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8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2 85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2 85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9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7 19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7 19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38 31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38 31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341 1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326 48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9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Культура и кинематограф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23 58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23 58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Социальная политика</a:t>
                      </a: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30 91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30 31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204 22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92 30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9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 84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 84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3 9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3 9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f271c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2" name="Text Box 3"/>
          <p:cNvSpPr/>
          <p:nvPr/>
        </p:nvSpPr>
        <p:spPr>
          <a:xfrm>
            <a:off x="1523880" y="304920"/>
            <a:ext cx="7315200" cy="785520"/>
          </a:xfrm>
          <a:prstGeom prst="rect">
            <a:avLst/>
          </a:prstGeom>
          <a:gradFill rotWithShape="0">
            <a:gsLst>
              <a:gs pos="0">
                <a:srgbClr val="3891a7"/>
              </a:gs>
              <a:gs pos="100000">
                <a:srgbClr val="1a43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cc"/>
                </a:solidFill>
                <a:latin typeface="Tahoma"/>
              </a:rPr>
              <a:t>Объем расходов районного бюджет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cc"/>
                </a:solidFill>
                <a:latin typeface="Tahoma"/>
              </a:rPr>
              <a:t>по разделам классификации расходов бюджет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Object 8" descr=""/>
          <p:cNvPicPr/>
          <p:nvPr/>
        </p:nvPicPr>
        <p:blipFill>
          <a:blip r:embed="rId1"/>
          <a:stretch/>
        </p:blipFill>
        <p:spPr>
          <a:xfrm>
            <a:off x="457200" y="49536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5786-6541-4481-91D0-AE544587E0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357720" y="333000"/>
            <a:ext cx="55591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разование</a:t>
            </a:r>
            <a:r>
              <a:rPr b="1" lang="ru-RU" sz="2500" spc="-1" strike="noStrike">
                <a:solidFill>
                  <a:srgbClr val="0070c0"/>
                </a:solidFill>
                <a:latin typeface="Corbel"/>
              </a:rPr>
              <a:t> </a:t>
            </a:r>
            <a:br>
              <a:rPr sz="2500"/>
            </a:br>
            <a:r>
              <a:rPr b="1" lang="ru-RU" sz="2500" spc="-1" strike="noStrike">
                <a:solidFill>
                  <a:srgbClr val="cc0000"/>
                </a:solidFill>
                <a:latin typeface="Corbel"/>
              </a:rPr>
              <a:t>326,5 </a:t>
            </a:r>
            <a:r>
              <a:rPr b="1" lang="ru-RU" sz="1400" spc="-1" strike="noStrike">
                <a:solidFill>
                  <a:srgbClr val="cc0000"/>
                </a:solidFill>
                <a:latin typeface="Corbel"/>
              </a:rPr>
              <a:t>млн.рублей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6" name="Text Box 250"/>
          <p:cNvSpPr/>
          <p:nvPr/>
        </p:nvSpPr>
        <p:spPr>
          <a:xfrm>
            <a:off x="0" y="3214800"/>
            <a:ext cx="271476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ние 26 учреждении образования, а именно 5 дошкольных образовательных, 14 общеобразовательных учреждений, 5 учреждения дополнительного образования, 1 учреждения спор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 Box 252"/>
          <p:cNvSpPr/>
          <p:nvPr/>
        </p:nvSpPr>
        <p:spPr>
          <a:xfrm>
            <a:off x="3143160" y="1643040"/>
            <a:ext cx="3084480" cy="479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амках государственной программы Воронежской области "Развитие образования" на 2014 год выделялись средства на капитальный ремонт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здания МКОУ «Яблоченской СОШ» для открытия  детского сада на 15 мест в сумме 4340,8 тыс. рублей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здания МДОУ ЦРР - детский сад  "Теремок" в сумме 3 036,5 тыс. рублей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здания МКОУ "Хохольский лицей" -16 016,3 тыс. рублей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спортивного зала в МКОУ «Оськинской СОШ» - 730 тыс. рублей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здании МКОУ "Староникольской СОШ" и МКОУ "Хохольская СОШ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254"/>
          <p:cNvSpPr/>
          <p:nvPr/>
        </p:nvSpPr>
        <p:spPr>
          <a:xfrm>
            <a:off x="6372360" y="1214280"/>
            <a:ext cx="2771640" cy="55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о исполнение Указа Президента Российской Федерации от 07.05.2012 г. № 597 «О мероприятиях по реализации государственной социальной политики»   в Хохольском муниципальном районе обеспечивались выполнение мероприятий по увеличению заработной платы работникам бюджетной сфер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9" name="Picture 2" descr="C:\Documents and Settings\Buh1\Мои документы\Мои рисунки\i5.jpeg"/>
          <p:cNvPicPr/>
          <p:nvPr/>
        </p:nvPicPr>
        <p:blipFill>
          <a:blip r:embed="rId1"/>
          <a:stretch/>
        </p:blipFill>
        <p:spPr>
          <a:xfrm>
            <a:off x="0" y="0"/>
            <a:ext cx="298620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ализация Указа Президента РФ от 7 мая 2012 г. N 597 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"О мероприятиях по реализации государственной социальной политики» в 2014 году и динамика достигнутых показателей (тыс. рублей)</a:t>
            </a:r>
            <a:br>
              <a:rPr sz="1600"/>
            </a:b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0" y="857160"/>
          <a:ext cx="9144000" cy="6000840"/>
        </p:xfrm>
        <a:graphic>
          <a:graphicData uri="http://schemas.openxmlformats.org/drawingml/2006/table">
            <a:tbl>
              <a:tblPr/>
              <a:tblGrid>
                <a:gridCol w="2565360"/>
                <a:gridCol w="1438200"/>
                <a:gridCol w="1157400"/>
                <a:gridCol w="1285920"/>
                <a:gridCol w="1347840"/>
                <a:gridCol w="1349280"/>
              </a:tblGrid>
              <a:tr h="253044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тегории работников учреждений бюджетной сф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емесячная заработная плата работников социальной сферы в 2012 го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емесячная заработная плата работников социальной сферы в 2013 го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п роста, 2013 года от 201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емесячная заработная плата работников социальной сферы в 2014 го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п роста, 2014 года от 2013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86832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и общеобразовательных учрежде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9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8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,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86688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и дошкольных образовательных учрежде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,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,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86832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и учреждения дополнительного образ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,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,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86688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реждения культуры и молодежной полити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FABA-83FC-4DE8-AB07-9BBBD9E7CC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ходы на культуру - 23583,3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ыс. рублей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4" name="AutoShape 256"/>
          <p:cNvSpPr/>
          <p:nvPr/>
        </p:nvSpPr>
        <p:spPr>
          <a:xfrm>
            <a:off x="928800" y="714240"/>
            <a:ext cx="457200" cy="609840"/>
          </a:xfrm>
          <a:custGeom>
            <a:avLst/>
            <a:gdLst>
              <a:gd name="textAreaLeft" fmla="*/ 61200 w 457200"/>
              <a:gd name="textAreaRight" fmla="*/ 396000 w 45720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utoShape 257"/>
          <p:cNvSpPr/>
          <p:nvPr/>
        </p:nvSpPr>
        <p:spPr>
          <a:xfrm>
            <a:off x="6786720" y="785880"/>
            <a:ext cx="457200" cy="533160"/>
          </a:xfrm>
          <a:custGeom>
            <a:avLst/>
            <a:gdLst>
              <a:gd name="textAreaLeft" fmla="*/ 61200 w 457200"/>
              <a:gd name="textAreaRight" fmla="*/ 396000 w 457200"/>
              <a:gd name="textAreaTop" fmla="*/ 93240 h 533160"/>
              <a:gd name="textAreaBottom" fmla="*/ 3866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Прямоугольник 14"/>
          <p:cNvSpPr/>
          <p:nvPr/>
        </p:nvSpPr>
        <p:spPr>
          <a:xfrm>
            <a:off x="0" y="2857680"/>
            <a:ext cx="2786040" cy="350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е муниципальное учреждение культуры Воронежской области - МКУК «Петинский СЦКиД»  поощрение в сумме 100 тыс. рублей. Лучший работник культуры Воронежской области- педагог МБОУ ДОД "Хохольская детская школа искусств" Дорохина Л.И. с денежным поощрением в сумме 50 тыс. рублей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TextBox 20"/>
          <p:cNvSpPr/>
          <p:nvPr/>
        </p:nvSpPr>
        <p:spPr>
          <a:xfrm>
            <a:off x="5214960" y="1357200"/>
            <a:ext cx="392904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граммы «Развитие сельской культуры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указа президента № 597 от 17 мая 2012 года «О мероприятиях по реализации государственной социальной политик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Прямоугольник 14"/>
          <p:cNvSpPr/>
          <p:nvPr/>
        </p:nvSpPr>
        <p:spPr>
          <a:xfrm>
            <a:off x="3000240" y="3071880"/>
            <a:ext cx="6143760" cy="35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государственной программы Воронежской области "Развитие культуры и туризма" привлечено средств из областного бюджета н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конструкцию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КУК «Центр культуры и досуга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л. Ленина, д. 6, в р.п. Хохольский (включая ПИР) и освоено за отчетный период сумма 72489 тыс. рублей, в том числе за счет бюджетного кредита в сумме 53667тыс. рубле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8dc76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льный ремонт здани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зея «Мастера»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Хохол в сумме 2296,1 тыс. рубле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TextBox 20"/>
          <p:cNvSpPr/>
          <p:nvPr/>
        </p:nvSpPr>
        <p:spPr>
          <a:xfrm>
            <a:off x="214200" y="1509840"/>
            <a:ext cx="40719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2 учреждений культуры -    1525,9 тыс. рубле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8920-7A02-456F-BAE8-B6C575CED3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асходы на физическую культуру и спорт -192302,2 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.рублей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68360" y="1483920"/>
            <a:ext cx="822960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Text Box 250"/>
          <p:cNvSpPr/>
          <p:nvPr/>
        </p:nvSpPr>
        <p:spPr>
          <a:xfrm>
            <a:off x="0" y="2071800"/>
            <a:ext cx="26431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приятия по физкультуре и спорту выполнены в сумме 687,1 тыс. рубл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Text Box 254"/>
          <p:cNvSpPr/>
          <p:nvPr/>
        </p:nvSpPr>
        <p:spPr>
          <a:xfrm>
            <a:off x="2786040" y="1285920"/>
            <a:ext cx="6357960" cy="545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государственной программы Воронежской области «Развитие физической культуры и спорта»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оительств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ртивной площадки МКОУ «Новогремяченская СОШ» 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63,8 т. р.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конструкцию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дио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.п.Хохольский-94 003,2 тыс. рублей, в том числе за счет безвозмездных средств (пожертвований ООО «Хохольский мел») 47 609 тыс. рублей, за счет бюджетного кредита 46 074,8 тыс. рубл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ств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культурно-оздорови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го комплекс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универсальным игровым залом в р.п. Хохольский. -   84 929,8 тыс. рубл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AutoShape 256"/>
          <p:cNvSpPr/>
          <p:nvPr/>
        </p:nvSpPr>
        <p:spPr>
          <a:xfrm>
            <a:off x="214200" y="785880"/>
            <a:ext cx="457200" cy="609480"/>
          </a:xfrm>
          <a:custGeom>
            <a:avLst/>
            <a:gdLst>
              <a:gd name="textAreaLeft" fmla="*/ 61200 w 457200"/>
              <a:gd name="textAreaRight" fmla="*/ 396000 w 45720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AutoShape 257"/>
          <p:cNvSpPr/>
          <p:nvPr/>
        </p:nvSpPr>
        <p:spPr>
          <a:xfrm rot="21293400">
            <a:off x="8664480" y="590400"/>
            <a:ext cx="457200" cy="533520"/>
          </a:xfrm>
          <a:custGeom>
            <a:avLst/>
            <a:gdLst>
              <a:gd name="textAreaLeft" fmla="*/ 61200 w 457200"/>
              <a:gd name="textAreaRight" fmla="*/ 396000 w 4572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250"/>
          <p:cNvSpPr/>
          <p:nvPr/>
        </p:nvSpPr>
        <p:spPr>
          <a:xfrm>
            <a:off x="0" y="4857840"/>
            <a:ext cx="26431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МБУ СОЦ «Дельфин»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645,5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.рубл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1171-3BB5-46B5-A843-686044DF07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072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ходы по отрасли «Национальная экономика» - 17196,2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ыс. рублей</a:t>
            </a:r>
            <a:br>
              <a:rPr sz="1400"/>
            </a:b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0" name="AutoShape 256"/>
          <p:cNvSpPr/>
          <p:nvPr/>
        </p:nvSpPr>
        <p:spPr>
          <a:xfrm>
            <a:off x="928800" y="714240"/>
            <a:ext cx="457200" cy="609840"/>
          </a:xfrm>
          <a:custGeom>
            <a:avLst/>
            <a:gdLst>
              <a:gd name="textAreaLeft" fmla="*/ 61200 w 457200"/>
              <a:gd name="textAreaRight" fmla="*/ 396000 w 45720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AutoShape 257"/>
          <p:cNvSpPr/>
          <p:nvPr/>
        </p:nvSpPr>
        <p:spPr>
          <a:xfrm>
            <a:off x="8001000" y="785880"/>
            <a:ext cx="457200" cy="533160"/>
          </a:xfrm>
          <a:custGeom>
            <a:avLst/>
            <a:gdLst>
              <a:gd name="textAreaLeft" fmla="*/ 61200 w 457200"/>
              <a:gd name="textAreaRight" fmla="*/ 396000 w 457200"/>
              <a:gd name="textAreaTop" fmla="*/ 93240 h 533160"/>
              <a:gd name="textAreaBottom" fmla="*/ 3866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Прямоугольник 14"/>
          <p:cNvSpPr/>
          <p:nvPr/>
        </p:nvSpPr>
        <p:spPr>
          <a:xfrm>
            <a:off x="0" y="2857680"/>
            <a:ext cx="2857680" cy="38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ГП ВО «Обеспечение доступным и комфортным жильем и коммунальными услугами населения Воронежской области» получены субсидии на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тие градостроительной деятельности в сумме 739,5 тыс. рублей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оительство блочной котельной для Кочетовской ООШ в сумме 1380,5 тыс. рублей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TextBox 20"/>
          <p:cNvSpPr/>
          <p:nvPr/>
        </p:nvSpPr>
        <p:spPr>
          <a:xfrm>
            <a:off x="5214960" y="1357200"/>
            <a:ext cx="3929040" cy="17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ГП ВО«Содействие развитию муниципальных образований и местного самоуправления» произведена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нструкция центральной площади ул.Ленин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бсидии на подготовку и празднование памятных дат) на сумму 6430,1 тыс. рублей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Прямоугольник 14"/>
          <p:cNvSpPr/>
          <p:nvPr/>
        </p:nvSpPr>
        <p:spPr>
          <a:xfrm>
            <a:off x="3000240" y="3214800"/>
            <a:ext cx="6143760" cy="37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государственной программы Воронежской области "«Содействие занятости населения Воронежской области на 2010-2014 годы»" привлечено средств из областного бюджета на 49,5 тыс. руб. в том числ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роникольское сельское поселение – 15,4 т. руб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охольское сельское поселение – 5,1 т. руб.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ькинское сельское поселение – 9,8 т.руб.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удкинское сельское поселение – 9,8 т.руб.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мидесятское сельское посел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8 т.руб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Box 20"/>
          <p:cNvSpPr/>
          <p:nvPr/>
        </p:nvSpPr>
        <p:spPr>
          <a:xfrm>
            <a:off x="214200" y="1357200"/>
            <a:ext cx="471492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ГП ВО «Экономическое развитие и инновационная экономика» произведена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лата грантов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здание собственного дела 3 начинающим малым предприятиям на сумму 1515, тыс. рублей.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«Жилищно-Коммунальное хозяйство»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- 38317,6 тыс. рубле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0" y="1609200"/>
            <a:ext cx="91440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государственной программы Воронежской области "Обеспечение доступным и комфортным жильем и коммунальными услугами населения Воронежской области»: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конструкцию 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ологических очистных сооружений,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ельностью 900 м³/сутки, в р.п. Хохольский (включая ПИР) в сумме  15 129,6 тыс. рублей, в том числе за счет бюджетного кредита 11564,7 тыс. рублей, субсидии из областного бюджета 3395,3 тыс. рублей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оительство 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опроводных и водоотводящих сетей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л. Свободы, Бреусовой, Спортивная, Строительная, Заводская, Дзержинского (водопровод, канализация), р.п.Хохольский в сумме       6 997,6 тыс. рублей за счет бюджетного кредита;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конструкция 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пловой сети ПУ-50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.п.Хохольский  на сумму 2 773,6 тыс. рублей;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конструкция существующей 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пловой сети по ул. Ленина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Школьная, пер.Морозова, р.п.Хохольский в сумме 51 039,9 тыс. рублей, в том числе за счет бюджетного кредита 23552,2 тыс. рублей, субсидии из областного бюджета 27281 тыс. рублей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«Жилищно-Коммунальное хозяйство»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- 38317,6 тыс. рубле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0" y="1609200"/>
            <a:ext cx="91440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государственной программы Воронежской области «Содействие развитию муниципальных образований и местного самоуправления» :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ройство тротуара, расположенного по ул. Парковая, ул. Чехова в р.п. Хохольский в сумме 3 451,1 тыс. рублей, за счет бюджетного кредита. 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ройство тротуара по ул.Мира и ул. Чапаева в с.Новогремячье –на сумму 1 370,3 тыс. рублей, за субсидии из областного бюджета.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ПЕРЕСЕЛЕНИЕ ИЗ ВЕТХОГО И АВАРИЙНОГО ЖИЛЬЯ…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82 тыс. рублей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. Борще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51" name="Picture 1" descr="C:\Documents and Settings\Buh1\Мои документы\Мои рисунки\101.jpeg"/>
          <p:cNvPicPr/>
          <p:nvPr/>
        </p:nvPicPr>
        <p:blipFill>
          <a:blip r:embed="rId1"/>
          <a:stretch/>
        </p:blipFill>
        <p:spPr>
          <a:xfrm>
            <a:off x="3543480" y="2714760"/>
            <a:ext cx="504000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2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8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object 2"/>
          <p:cNvSpPr/>
          <p:nvPr/>
        </p:nvSpPr>
        <p:spPr>
          <a:xfrm>
            <a:off x="0" y="762120"/>
            <a:ext cx="2057400" cy="2020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1760" y="61560"/>
            <a:ext cx="81723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135000" bIns="0" anchor="ctr">
            <a:noAutofit/>
          </a:bodyPr>
          <a:p>
            <a:pPr marL="1873080" indent="0">
              <a:lnSpc>
                <a:spcPts val="2874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Какие бывают бюджеты у государства?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9" name="object 5"/>
          <p:cNvSpPr/>
          <p:nvPr/>
        </p:nvSpPr>
        <p:spPr>
          <a:xfrm>
            <a:off x="2139840" y="1271520"/>
            <a:ext cx="5294520" cy="1138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object 6"/>
          <p:cNvSpPr/>
          <p:nvPr/>
        </p:nvSpPr>
        <p:spPr>
          <a:xfrm>
            <a:off x="819000" y="706320"/>
            <a:ext cx="750600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70200" indent="-1857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кольку Российская Федерация является федеративным правовым государством, то бюджеты бываю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70200" indent="-1857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ая систе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70200" indent="-1857600" algn="ctr">
              <a:lnSpc>
                <a:spcPts val="3348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object 7"/>
          <p:cNvSpPr/>
          <p:nvPr/>
        </p:nvSpPr>
        <p:spPr>
          <a:xfrm>
            <a:off x="165240" y="2765520"/>
            <a:ext cx="1393560" cy="117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object 8"/>
          <p:cNvSpPr/>
          <p:nvPr/>
        </p:nvSpPr>
        <p:spPr>
          <a:xfrm>
            <a:off x="366840" y="2970360"/>
            <a:ext cx="990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 ный бюдж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object 9"/>
          <p:cNvSpPr/>
          <p:nvPr/>
        </p:nvSpPr>
        <p:spPr>
          <a:xfrm>
            <a:off x="3767040" y="2765520"/>
            <a:ext cx="1605240" cy="117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object 10"/>
          <p:cNvSpPr/>
          <p:nvPr/>
        </p:nvSpPr>
        <p:spPr>
          <a:xfrm>
            <a:off x="3965400" y="2833560"/>
            <a:ext cx="1216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ы субъекто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object 11"/>
          <p:cNvSpPr/>
          <p:nvPr/>
        </p:nvSpPr>
        <p:spPr>
          <a:xfrm>
            <a:off x="7580160" y="2765520"/>
            <a:ext cx="1393920" cy="12445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object 12"/>
          <p:cNvSpPr/>
          <p:nvPr/>
        </p:nvSpPr>
        <p:spPr>
          <a:xfrm>
            <a:off x="7797960" y="3143160"/>
            <a:ext cx="969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1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object 13"/>
          <p:cNvSpPr/>
          <p:nvPr/>
        </p:nvSpPr>
        <p:spPr>
          <a:xfrm>
            <a:off x="5495760" y="2765520"/>
            <a:ext cx="2038680" cy="14637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object 14"/>
          <p:cNvSpPr/>
          <p:nvPr/>
        </p:nvSpPr>
        <p:spPr>
          <a:xfrm>
            <a:off x="5673600" y="2913120"/>
            <a:ext cx="168444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ы территориальных государственных внебюджетных фонд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object 15"/>
          <p:cNvSpPr/>
          <p:nvPr/>
        </p:nvSpPr>
        <p:spPr>
          <a:xfrm>
            <a:off x="1751040" y="2765520"/>
            <a:ext cx="1887480" cy="117612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object 16"/>
          <p:cNvSpPr/>
          <p:nvPr/>
        </p:nvSpPr>
        <p:spPr>
          <a:xfrm>
            <a:off x="1909800" y="2840040"/>
            <a:ext cx="157968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ы государственных внебюджетных фондов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object 17"/>
          <p:cNvSpPr/>
          <p:nvPr/>
        </p:nvSpPr>
        <p:spPr>
          <a:xfrm>
            <a:off x="4133880" y="4965840"/>
            <a:ext cx="2101680" cy="16542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object 18"/>
          <p:cNvSpPr/>
          <p:nvPr/>
        </p:nvSpPr>
        <p:spPr>
          <a:xfrm>
            <a:off x="4321080" y="5121360"/>
            <a:ext cx="17272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ы городских округов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object 19"/>
          <p:cNvSpPr/>
          <p:nvPr/>
        </p:nvSpPr>
        <p:spPr>
          <a:xfrm>
            <a:off x="6369120" y="4965840"/>
            <a:ext cx="2633760" cy="16542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object 20"/>
          <p:cNvSpPr/>
          <p:nvPr/>
        </p:nvSpPr>
        <p:spPr>
          <a:xfrm>
            <a:off x="6630840" y="5121360"/>
            <a:ext cx="22845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ы городских и сельских поселени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имер,  местный бюджет  Хохольского городского поселения, Староникольского сельского поселения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object 21"/>
          <p:cNvSpPr/>
          <p:nvPr/>
        </p:nvSpPr>
        <p:spPr>
          <a:xfrm>
            <a:off x="1523880" y="4965840"/>
            <a:ext cx="2549520" cy="165420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object 22"/>
          <p:cNvSpPr/>
          <p:nvPr/>
        </p:nvSpPr>
        <p:spPr>
          <a:xfrm>
            <a:off x="1676520" y="5105520"/>
            <a:ext cx="2209680" cy="13698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х районов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имер, РАЙОННЫЙ бюджет Хохольского муниципального района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object 23"/>
          <p:cNvSpPr/>
          <p:nvPr/>
        </p:nvSpPr>
        <p:spPr>
          <a:xfrm>
            <a:off x="2416320" y="2309760"/>
            <a:ext cx="2417760" cy="63504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object 24"/>
          <p:cNvSpPr/>
          <p:nvPr/>
        </p:nvSpPr>
        <p:spPr>
          <a:xfrm>
            <a:off x="2627280" y="2330280"/>
            <a:ext cx="2163960" cy="438480"/>
          </a:xfrm>
          <a:custGeom>
            <a:avLst/>
            <a:gdLst>
              <a:gd name="textAreaLeft" fmla="*/ 0 w 2163960"/>
              <a:gd name="textAreaRight" fmla="*/ 2164320 w 2163960"/>
              <a:gd name="textAreaTop" fmla="*/ 0 h 438480"/>
              <a:gd name="textAreaBottom" fmla="*/ 438840 h 438480"/>
            </a:gdLst>
            <a:ahLst/>
            <a:rect l="textAreaLeft" t="textAreaTop" r="textAreaRight" b="textAreaBottom"/>
            <a:pathLst>
              <a:path w="2163445" h="438785">
                <a:moveTo>
                  <a:pt x="138025" y="269065"/>
                </a:moveTo>
                <a:lnTo>
                  <a:pt x="126873" y="273430"/>
                </a:lnTo>
                <a:lnTo>
                  <a:pt x="0" y="378840"/>
                </a:lnTo>
                <a:lnTo>
                  <a:pt x="154178" y="437388"/>
                </a:lnTo>
                <a:lnTo>
                  <a:pt x="162426" y="438508"/>
                </a:lnTo>
                <a:lnTo>
                  <a:pt x="172526" y="433605"/>
                </a:lnTo>
                <a:lnTo>
                  <a:pt x="179906" y="421116"/>
                </a:lnTo>
                <a:lnTo>
                  <a:pt x="177098" y="409531"/>
                </a:lnTo>
                <a:lnTo>
                  <a:pt x="167640" y="401827"/>
                </a:lnTo>
                <a:lnTo>
                  <a:pt x="140225" y="391413"/>
                </a:lnTo>
                <a:lnTo>
                  <a:pt x="40386" y="391413"/>
                </a:lnTo>
                <a:lnTo>
                  <a:pt x="34162" y="353821"/>
                </a:lnTo>
                <a:lnTo>
                  <a:pt x="101389" y="342617"/>
                </a:lnTo>
                <a:lnTo>
                  <a:pt x="156501" y="295196"/>
                </a:lnTo>
                <a:lnTo>
                  <a:pt x="156676" y="284282"/>
                </a:lnTo>
                <a:lnTo>
                  <a:pt x="149416" y="272163"/>
                </a:lnTo>
                <a:lnTo>
                  <a:pt x="138025" y="269065"/>
                </a:lnTo>
                <a:close/>
              </a:path>
              <a:path w="2163445" h="438785">
                <a:moveTo>
                  <a:pt x="101389" y="342617"/>
                </a:moveTo>
                <a:lnTo>
                  <a:pt x="34162" y="353821"/>
                </a:lnTo>
                <a:lnTo>
                  <a:pt x="40386" y="391413"/>
                </a:lnTo>
                <a:lnTo>
                  <a:pt x="64771" y="387350"/>
                </a:lnTo>
                <a:lnTo>
                  <a:pt x="49403" y="387350"/>
                </a:lnTo>
                <a:lnTo>
                  <a:pt x="43942" y="354838"/>
                </a:lnTo>
                <a:lnTo>
                  <a:pt x="87187" y="354838"/>
                </a:lnTo>
                <a:lnTo>
                  <a:pt x="101389" y="342617"/>
                </a:lnTo>
                <a:close/>
              </a:path>
              <a:path w="2163445" h="438785">
                <a:moveTo>
                  <a:pt x="109781" y="379848"/>
                </a:moveTo>
                <a:lnTo>
                  <a:pt x="40386" y="391413"/>
                </a:lnTo>
                <a:lnTo>
                  <a:pt x="140225" y="391413"/>
                </a:lnTo>
                <a:lnTo>
                  <a:pt x="109781" y="379848"/>
                </a:lnTo>
                <a:close/>
              </a:path>
              <a:path w="2163445" h="438785">
                <a:moveTo>
                  <a:pt x="43942" y="354838"/>
                </a:moveTo>
                <a:lnTo>
                  <a:pt x="49403" y="387350"/>
                </a:lnTo>
                <a:lnTo>
                  <a:pt x="73942" y="366234"/>
                </a:lnTo>
                <a:lnTo>
                  <a:pt x="43942" y="354838"/>
                </a:lnTo>
                <a:close/>
              </a:path>
              <a:path w="2163445" h="438785">
                <a:moveTo>
                  <a:pt x="73942" y="366234"/>
                </a:moveTo>
                <a:lnTo>
                  <a:pt x="49403" y="387350"/>
                </a:lnTo>
                <a:lnTo>
                  <a:pt x="64771" y="387350"/>
                </a:lnTo>
                <a:lnTo>
                  <a:pt x="109781" y="379848"/>
                </a:lnTo>
                <a:lnTo>
                  <a:pt x="73942" y="366234"/>
                </a:lnTo>
                <a:close/>
              </a:path>
              <a:path w="2163445" h="438785">
                <a:moveTo>
                  <a:pt x="2157095" y="0"/>
                </a:moveTo>
                <a:lnTo>
                  <a:pt x="101389" y="342617"/>
                </a:lnTo>
                <a:lnTo>
                  <a:pt x="73942" y="366234"/>
                </a:lnTo>
                <a:lnTo>
                  <a:pt x="109781" y="379848"/>
                </a:lnTo>
                <a:lnTo>
                  <a:pt x="2163445" y="37591"/>
                </a:lnTo>
                <a:lnTo>
                  <a:pt x="2157095" y="0"/>
                </a:lnTo>
                <a:close/>
              </a:path>
              <a:path w="2163445" h="438785">
                <a:moveTo>
                  <a:pt x="87187" y="354838"/>
                </a:moveTo>
                <a:lnTo>
                  <a:pt x="43942" y="354838"/>
                </a:lnTo>
                <a:lnTo>
                  <a:pt x="73942" y="366234"/>
                </a:lnTo>
                <a:lnTo>
                  <a:pt x="87187" y="354838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object 25"/>
          <p:cNvSpPr/>
          <p:nvPr/>
        </p:nvSpPr>
        <p:spPr>
          <a:xfrm>
            <a:off x="542880" y="2309760"/>
            <a:ext cx="4218120" cy="63504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object 26"/>
          <p:cNvSpPr/>
          <p:nvPr/>
        </p:nvSpPr>
        <p:spPr>
          <a:xfrm>
            <a:off x="755640" y="2330280"/>
            <a:ext cx="3962520" cy="45108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3962400" h="450850">
                <a:moveTo>
                  <a:pt x="145845" y="279783"/>
                </a:moveTo>
                <a:lnTo>
                  <a:pt x="134404" y="283337"/>
                </a:lnTo>
                <a:lnTo>
                  <a:pt x="0" y="378968"/>
                </a:lnTo>
                <a:lnTo>
                  <a:pt x="149453" y="448818"/>
                </a:lnTo>
                <a:lnTo>
                  <a:pt x="158059" y="450535"/>
                </a:lnTo>
                <a:lnTo>
                  <a:pt x="168262" y="446199"/>
                </a:lnTo>
                <a:lnTo>
                  <a:pt x="176382" y="434322"/>
                </a:lnTo>
                <a:lnTo>
                  <a:pt x="174345" y="422694"/>
                </a:lnTo>
                <a:lnTo>
                  <a:pt x="165595" y="414400"/>
                </a:lnTo>
                <a:lnTo>
                  <a:pt x="123286" y="394588"/>
                </a:lnTo>
                <a:lnTo>
                  <a:pt x="39370" y="394588"/>
                </a:lnTo>
                <a:lnTo>
                  <a:pt x="35915" y="356616"/>
                </a:lnTo>
                <a:lnTo>
                  <a:pt x="103627" y="350460"/>
                </a:lnTo>
                <a:lnTo>
                  <a:pt x="162458" y="307001"/>
                </a:lnTo>
                <a:lnTo>
                  <a:pt x="163300" y="296181"/>
                </a:lnTo>
                <a:lnTo>
                  <a:pt x="156932" y="283602"/>
                </a:lnTo>
                <a:lnTo>
                  <a:pt x="145845" y="279783"/>
                </a:lnTo>
                <a:close/>
              </a:path>
              <a:path w="3962400" h="450850">
                <a:moveTo>
                  <a:pt x="103627" y="350460"/>
                </a:moveTo>
                <a:lnTo>
                  <a:pt x="35915" y="356616"/>
                </a:lnTo>
                <a:lnTo>
                  <a:pt x="39370" y="394588"/>
                </a:lnTo>
                <a:lnTo>
                  <a:pt x="78473" y="391033"/>
                </a:lnTo>
                <a:lnTo>
                  <a:pt x="48704" y="391033"/>
                </a:lnTo>
                <a:lnTo>
                  <a:pt x="45720" y="358267"/>
                </a:lnTo>
                <a:lnTo>
                  <a:pt x="93060" y="358267"/>
                </a:lnTo>
                <a:lnTo>
                  <a:pt x="103627" y="350460"/>
                </a:lnTo>
                <a:close/>
              </a:path>
              <a:path w="3962400" h="450850">
                <a:moveTo>
                  <a:pt x="109639" y="388198"/>
                </a:moveTo>
                <a:lnTo>
                  <a:pt x="39370" y="394588"/>
                </a:lnTo>
                <a:lnTo>
                  <a:pt x="123286" y="394588"/>
                </a:lnTo>
                <a:lnTo>
                  <a:pt x="109639" y="388198"/>
                </a:lnTo>
                <a:close/>
              </a:path>
              <a:path w="3962400" h="450850">
                <a:moveTo>
                  <a:pt x="45720" y="358267"/>
                </a:moveTo>
                <a:lnTo>
                  <a:pt x="48704" y="391033"/>
                </a:lnTo>
                <a:lnTo>
                  <a:pt x="74693" y="371834"/>
                </a:lnTo>
                <a:lnTo>
                  <a:pt x="45720" y="358267"/>
                </a:lnTo>
                <a:close/>
              </a:path>
              <a:path w="3962400" h="450850">
                <a:moveTo>
                  <a:pt x="74693" y="371834"/>
                </a:moveTo>
                <a:lnTo>
                  <a:pt x="48704" y="391033"/>
                </a:lnTo>
                <a:lnTo>
                  <a:pt x="78473" y="391033"/>
                </a:lnTo>
                <a:lnTo>
                  <a:pt x="109639" y="388198"/>
                </a:lnTo>
                <a:lnTo>
                  <a:pt x="74693" y="371834"/>
                </a:lnTo>
                <a:close/>
              </a:path>
              <a:path w="3962400" h="450850">
                <a:moveTo>
                  <a:pt x="3958755" y="0"/>
                </a:moveTo>
                <a:lnTo>
                  <a:pt x="103627" y="350460"/>
                </a:lnTo>
                <a:lnTo>
                  <a:pt x="74693" y="371834"/>
                </a:lnTo>
                <a:lnTo>
                  <a:pt x="109639" y="388198"/>
                </a:lnTo>
                <a:lnTo>
                  <a:pt x="3962311" y="37846"/>
                </a:lnTo>
                <a:lnTo>
                  <a:pt x="3958755" y="0"/>
                </a:lnTo>
                <a:close/>
              </a:path>
              <a:path w="3962400" h="450850">
                <a:moveTo>
                  <a:pt x="93060" y="358267"/>
                </a:moveTo>
                <a:lnTo>
                  <a:pt x="45720" y="358267"/>
                </a:lnTo>
                <a:lnTo>
                  <a:pt x="74693" y="371834"/>
                </a:lnTo>
                <a:lnTo>
                  <a:pt x="93060" y="358267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object 27"/>
          <p:cNvSpPr/>
          <p:nvPr/>
        </p:nvSpPr>
        <p:spPr>
          <a:xfrm>
            <a:off x="4670280" y="2309760"/>
            <a:ext cx="3857760" cy="63504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object 28"/>
          <p:cNvSpPr/>
          <p:nvPr/>
        </p:nvSpPr>
        <p:spPr>
          <a:xfrm>
            <a:off x="4714920" y="2330280"/>
            <a:ext cx="3602160" cy="447840"/>
          </a:xfrm>
          <a:custGeom>
            <a:avLst/>
            <a:gdLst>
              <a:gd name="textAreaLeft" fmla="*/ 0 w 3602160"/>
              <a:gd name="textAreaRight" fmla="*/ 3602520 w 360216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3602354" h="448944">
                <a:moveTo>
                  <a:pt x="3495000" y="387420"/>
                </a:moveTo>
                <a:lnTo>
                  <a:pt x="3429360" y="418745"/>
                </a:lnTo>
                <a:lnTo>
                  <a:pt x="3426319" y="429201"/>
                </a:lnTo>
                <a:lnTo>
                  <a:pt x="3430092" y="442799"/>
                </a:lnTo>
                <a:lnTo>
                  <a:pt x="3440285" y="448792"/>
                </a:lnTo>
                <a:lnTo>
                  <a:pt x="3452367" y="447548"/>
                </a:lnTo>
                <a:lnTo>
                  <a:pt x="3569024" y="394208"/>
                </a:lnTo>
                <a:lnTo>
                  <a:pt x="3562858" y="394208"/>
                </a:lnTo>
                <a:lnTo>
                  <a:pt x="3495000" y="387420"/>
                </a:lnTo>
                <a:close/>
              </a:path>
              <a:path w="3602354" h="448944">
                <a:moveTo>
                  <a:pt x="3527664" y="371832"/>
                </a:moveTo>
                <a:lnTo>
                  <a:pt x="3495000" y="387420"/>
                </a:lnTo>
                <a:lnTo>
                  <a:pt x="3562858" y="394208"/>
                </a:lnTo>
                <a:lnTo>
                  <a:pt x="3563214" y="390652"/>
                </a:lnTo>
                <a:lnTo>
                  <a:pt x="3553587" y="390652"/>
                </a:lnTo>
                <a:lnTo>
                  <a:pt x="3527664" y="371832"/>
                </a:lnTo>
                <a:close/>
              </a:path>
              <a:path w="3602354" h="448944">
                <a:moveTo>
                  <a:pt x="3460409" y="278810"/>
                </a:moveTo>
                <a:lnTo>
                  <a:pt x="3449700" y="281295"/>
                </a:lnTo>
                <a:lnTo>
                  <a:pt x="3439588" y="291470"/>
                </a:lnTo>
                <a:lnTo>
                  <a:pt x="3439531" y="303202"/>
                </a:lnTo>
                <a:lnTo>
                  <a:pt x="3446526" y="312928"/>
                </a:lnTo>
                <a:lnTo>
                  <a:pt x="3496517" y="349220"/>
                </a:lnTo>
                <a:lnTo>
                  <a:pt x="3566667" y="356235"/>
                </a:lnTo>
                <a:lnTo>
                  <a:pt x="3562858" y="394208"/>
                </a:lnTo>
                <a:lnTo>
                  <a:pt x="3569024" y="394208"/>
                </a:lnTo>
                <a:lnTo>
                  <a:pt x="3602355" y="378968"/>
                </a:lnTo>
                <a:lnTo>
                  <a:pt x="3468878" y="282067"/>
                </a:lnTo>
                <a:lnTo>
                  <a:pt x="3460409" y="278810"/>
                </a:lnTo>
                <a:close/>
              </a:path>
              <a:path w="3602354" h="448944">
                <a:moveTo>
                  <a:pt x="3556889" y="357886"/>
                </a:moveTo>
                <a:lnTo>
                  <a:pt x="3527664" y="371832"/>
                </a:lnTo>
                <a:lnTo>
                  <a:pt x="3553587" y="390652"/>
                </a:lnTo>
                <a:lnTo>
                  <a:pt x="3556889" y="357886"/>
                </a:lnTo>
                <a:close/>
              </a:path>
              <a:path w="3602354" h="448944">
                <a:moveTo>
                  <a:pt x="3566502" y="357886"/>
                </a:moveTo>
                <a:lnTo>
                  <a:pt x="3556889" y="357886"/>
                </a:lnTo>
                <a:lnTo>
                  <a:pt x="3553587" y="390652"/>
                </a:lnTo>
                <a:lnTo>
                  <a:pt x="3563214" y="390652"/>
                </a:lnTo>
                <a:lnTo>
                  <a:pt x="3566502" y="357886"/>
                </a:lnTo>
                <a:close/>
              </a:path>
              <a:path w="3602354" h="448944">
                <a:moveTo>
                  <a:pt x="3810" y="0"/>
                </a:moveTo>
                <a:lnTo>
                  <a:pt x="0" y="37846"/>
                </a:lnTo>
                <a:lnTo>
                  <a:pt x="3495000" y="387420"/>
                </a:lnTo>
                <a:lnTo>
                  <a:pt x="3527664" y="371832"/>
                </a:lnTo>
                <a:lnTo>
                  <a:pt x="3496517" y="349220"/>
                </a:lnTo>
                <a:lnTo>
                  <a:pt x="3810" y="0"/>
                </a:lnTo>
                <a:close/>
              </a:path>
              <a:path w="3602354" h="448944">
                <a:moveTo>
                  <a:pt x="3496517" y="349220"/>
                </a:moveTo>
                <a:lnTo>
                  <a:pt x="3527664" y="371832"/>
                </a:lnTo>
                <a:lnTo>
                  <a:pt x="3556889" y="357886"/>
                </a:lnTo>
                <a:lnTo>
                  <a:pt x="3566502" y="357886"/>
                </a:lnTo>
                <a:lnTo>
                  <a:pt x="3566667" y="356235"/>
                </a:lnTo>
                <a:lnTo>
                  <a:pt x="3496517" y="34922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object 29"/>
          <p:cNvSpPr/>
          <p:nvPr/>
        </p:nvSpPr>
        <p:spPr>
          <a:xfrm>
            <a:off x="4361040" y="2320920"/>
            <a:ext cx="487080" cy="69516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object 30"/>
          <p:cNvSpPr/>
          <p:nvPr/>
        </p:nvSpPr>
        <p:spPr>
          <a:xfrm>
            <a:off x="4560840" y="2340000"/>
            <a:ext cx="244440" cy="441360"/>
          </a:xfrm>
          <a:custGeom>
            <a:avLst/>
            <a:gdLst>
              <a:gd name="textAreaLeft" fmla="*/ 0 w 244440"/>
              <a:gd name="textAreaRight" fmla="*/ 244800 w 2444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43839" h="440689">
                <a:moveTo>
                  <a:pt x="15152" y="256120"/>
                </a:moveTo>
                <a:lnTo>
                  <a:pt x="3911" y="263168"/>
                </a:lnTo>
                <a:lnTo>
                  <a:pt x="0" y="275971"/>
                </a:lnTo>
                <a:lnTo>
                  <a:pt x="10667" y="440690"/>
                </a:lnTo>
                <a:lnTo>
                  <a:pt x="49306" y="415417"/>
                </a:lnTo>
                <a:lnTo>
                  <a:pt x="44576" y="415417"/>
                </a:lnTo>
                <a:lnTo>
                  <a:pt x="10540" y="398272"/>
                </a:lnTo>
                <a:lnTo>
                  <a:pt x="41707" y="335939"/>
                </a:lnTo>
                <a:lnTo>
                  <a:pt x="37118" y="268962"/>
                </a:lnTo>
                <a:lnTo>
                  <a:pt x="29343" y="259180"/>
                </a:lnTo>
                <a:lnTo>
                  <a:pt x="15152" y="256120"/>
                </a:lnTo>
                <a:close/>
              </a:path>
              <a:path w="243839" h="440689">
                <a:moveTo>
                  <a:pt x="41707" y="335939"/>
                </a:moveTo>
                <a:lnTo>
                  <a:pt x="10540" y="398272"/>
                </a:lnTo>
                <a:lnTo>
                  <a:pt x="44576" y="415417"/>
                </a:lnTo>
                <a:lnTo>
                  <a:pt x="49464" y="405638"/>
                </a:lnTo>
                <a:lnTo>
                  <a:pt x="46481" y="405638"/>
                </a:lnTo>
                <a:lnTo>
                  <a:pt x="17144" y="390906"/>
                </a:lnTo>
                <a:lnTo>
                  <a:pt x="44258" y="373182"/>
                </a:lnTo>
                <a:lnTo>
                  <a:pt x="41707" y="335939"/>
                </a:lnTo>
                <a:close/>
              </a:path>
              <a:path w="243839" h="440689">
                <a:moveTo>
                  <a:pt x="139418" y="315398"/>
                </a:moveTo>
                <a:lnTo>
                  <a:pt x="127888" y="318516"/>
                </a:lnTo>
                <a:lnTo>
                  <a:pt x="76086" y="352377"/>
                </a:lnTo>
                <a:lnTo>
                  <a:pt x="44576" y="415417"/>
                </a:lnTo>
                <a:lnTo>
                  <a:pt x="49306" y="415417"/>
                </a:lnTo>
                <a:lnTo>
                  <a:pt x="148716" y="350393"/>
                </a:lnTo>
                <a:lnTo>
                  <a:pt x="154992" y="343164"/>
                </a:lnTo>
                <a:lnTo>
                  <a:pt x="156208" y="332414"/>
                </a:lnTo>
                <a:lnTo>
                  <a:pt x="150306" y="319657"/>
                </a:lnTo>
                <a:lnTo>
                  <a:pt x="139418" y="315398"/>
                </a:lnTo>
                <a:close/>
              </a:path>
              <a:path w="243839" h="440689">
                <a:moveTo>
                  <a:pt x="44258" y="373182"/>
                </a:moveTo>
                <a:lnTo>
                  <a:pt x="17144" y="390906"/>
                </a:lnTo>
                <a:lnTo>
                  <a:pt x="46481" y="405638"/>
                </a:lnTo>
                <a:lnTo>
                  <a:pt x="44258" y="373182"/>
                </a:lnTo>
                <a:close/>
              </a:path>
              <a:path w="243839" h="440689">
                <a:moveTo>
                  <a:pt x="76086" y="352377"/>
                </a:moveTo>
                <a:lnTo>
                  <a:pt x="44258" y="373182"/>
                </a:lnTo>
                <a:lnTo>
                  <a:pt x="46481" y="405638"/>
                </a:lnTo>
                <a:lnTo>
                  <a:pt x="49464" y="405638"/>
                </a:lnTo>
                <a:lnTo>
                  <a:pt x="76086" y="352377"/>
                </a:lnTo>
                <a:close/>
              </a:path>
              <a:path w="243839" h="440689">
                <a:moveTo>
                  <a:pt x="209676" y="0"/>
                </a:moveTo>
                <a:lnTo>
                  <a:pt x="41707" y="335939"/>
                </a:lnTo>
                <a:lnTo>
                  <a:pt x="44258" y="373182"/>
                </a:lnTo>
                <a:lnTo>
                  <a:pt x="76086" y="352377"/>
                </a:lnTo>
                <a:lnTo>
                  <a:pt x="243712" y="17018"/>
                </a:lnTo>
                <a:lnTo>
                  <a:pt x="209676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object 31"/>
          <p:cNvSpPr/>
          <p:nvPr/>
        </p:nvSpPr>
        <p:spPr>
          <a:xfrm>
            <a:off x="4741920" y="2309760"/>
            <a:ext cx="1985760" cy="70632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object 32"/>
          <p:cNvSpPr/>
          <p:nvPr/>
        </p:nvSpPr>
        <p:spPr>
          <a:xfrm>
            <a:off x="4782960" y="2330280"/>
            <a:ext cx="1733760" cy="497160"/>
          </a:xfrm>
          <a:custGeom>
            <a:avLst/>
            <a:gdLst>
              <a:gd name="textAreaLeft" fmla="*/ 0 w 1733760"/>
              <a:gd name="textAreaRight" fmla="*/ 1734120 w 1733760"/>
              <a:gd name="textAreaTop" fmla="*/ 0 h 497160"/>
              <a:gd name="textAreaBottom" fmla="*/ 497520 h 497160"/>
            </a:gdLst>
            <a:ahLst/>
            <a:rect l="textAreaLeft" t="textAreaTop" r="textAreaRight" b="textAreaBottom"/>
            <a:pathLst>
              <a:path w="1732915" h="496569">
                <a:moveTo>
                  <a:pt x="1624827" y="443194"/>
                </a:moveTo>
                <a:lnTo>
                  <a:pt x="1556608" y="464013"/>
                </a:lnTo>
                <a:lnTo>
                  <a:pt x="1551366" y="473921"/>
                </a:lnTo>
                <a:lnTo>
                  <a:pt x="1552737" y="488097"/>
                </a:lnTo>
                <a:lnTo>
                  <a:pt x="1562043" y="495983"/>
                </a:lnTo>
                <a:lnTo>
                  <a:pt x="1574419" y="496570"/>
                </a:lnTo>
                <a:lnTo>
                  <a:pt x="1700503" y="459866"/>
                </a:lnTo>
                <a:lnTo>
                  <a:pt x="1691513" y="459866"/>
                </a:lnTo>
                <a:lnTo>
                  <a:pt x="1624827" y="443194"/>
                </a:lnTo>
                <a:close/>
              </a:path>
              <a:path w="1732915" h="496569">
                <a:moveTo>
                  <a:pt x="1659875" y="432498"/>
                </a:moveTo>
                <a:lnTo>
                  <a:pt x="1624827" y="443194"/>
                </a:lnTo>
                <a:lnTo>
                  <a:pt x="1691513" y="459866"/>
                </a:lnTo>
                <a:lnTo>
                  <a:pt x="1692755" y="454913"/>
                </a:lnTo>
                <a:lnTo>
                  <a:pt x="1682877" y="454913"/>
                </a:lnTo>
                <a:lnTo>
                  <a:pt x="1659875" y="432498"/>
                </a:lnTo>
                <a:close/>
              </a:path>
              <a:path w="1732915" h="496569">
                <a:moveTo>
                  <a:pt x="1607153" y="330853"/>
                </a:moveTo>
                <a:lnTo>
                  <a:pt x="1596105" y="331536"/>
                </a:lnTo>
                <a:lnTo>
                  <a:pt x="1584643" y="339939"/>
                </a:lnTo>
                <a:lnTo>
                  <a:pt x="1582620" y="351707"/>
                </a:lnTo>
                <a:lnTo>
                  <a:pt x="1588135" y="362585"/>
                </a:lnTo>
                <a:lnTo>
                  <a:pt x="1632526" y="405845"/>
                </a:lnTo>
                <a:lnTo>
                  <a:pt x="1700784" y="422910"/>
                </a:lnTo>
                <a:lnTo>
                  <a:pt x="1691513" y="459866"/>
                </a:lnTo>
                <a:lnTo>
                  <a:pt x="1700503" y="459866"/>
                </a:lnTo>
                <a:lnTo>
                  <a:pt x="1732788" y="450469"/>
                </a:lnTo>
                <a:lnTo>
                  <a:pt x="1614805" y="335279"/>
                </a:lnTo>
                <a:lnTo>
                  <a:pt x="1607153" y="330853"/>
                </a:lnTo>
                <a:close/>
              </a:path>
              <a:path w="1732915" h="496569">
                <a:moveTo>
                  <a:pt x="1690878" y="423037"/>
                </a:moveTo>
                <a:lnTo>
                  <a:pt x="1659875" y="432498"/>
                </a:lnTo>
                <a:lnTo>
                  <a:pt x="1682877" y="454913"/>
                </a:lnTo>
                <a:lnTo>
                  <a:pt x="1690878" y="423037"/>
                </a:lnTo>
                <a:close/>
              </a:path>
              <a:path w="1732915" h="496569">
                <a:moveTo>
                  <a:pt x="1700752" y="423037"/>
                </a:moveTo>
                <a:lnTo>
                  <a:pt x="1690878" y="423037"/>
                </a:lnTo>
                <a:lnTo>
                  <a:pt x="1682877" y="454913"/>
                </a:lnTo>
                <a:lnTo>
                  <a:pt x="1692755" y="454913"/>
                </a:lnTo>
                <a:lnTo>
                  <a:pt x="1700752" y="423037"/>
                </a:lnTo>
                <a:close/>
              </a:path>
              <a:path w="1732915" h="496569">
                <a:moveTo>
                  <a:pt x="9144" y="0"/>
                </a:moveTo>
                <a:lnTo>
                  <a:pt x="0" y="36957"/>
                </a:lnTo>
                <a:lnTo>
                  <a:pt x="1624827" y="443194"/>
                </a:lnTo>
                <a:lnTo>
                  <a:pt x="1659875" y="432498"/>
                </a:lnTo>
                <a:lnTo>
                  <a:pt x="1632526" y="405845"/>
                </a:lnTo>
                <a:lnTo>
                  <a:pt x="9144" y="0"/>
                </a:lnTo>
                <a:close/>
              </a:path>
              <a:path w="1732915" h="496569">
                <a:moveTo>
                  <a:pt x="1632526" y="405845"/>
                </a:moveTo>
                <a:lnTo>
                  <a:pt x="1659875" y="432498"/>
                </a:lnTo>
                <a:lnTo>
                  <a:pt x="1690878" y="423037"/>
                </a:lnTo>
                <a:lnTo>
                  <a:pt x="1700752" y="423037"/>
                </a:lnTo>
                <a:lnTo>
                  <a:pt x="1632526" y="405845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object 33"/>
          <p:cNvSpPr/>
          <p:nvPr/>
        </p:nvSpPr>
        <p:spPr>
          <a:xfrm>
            <a:off x="3048120" y="3970440"/>
            <a:ext cx="5276880" cy="114768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object 34"/>
          <p:cNvSpPr/>
          <p:nvPr/>
        </p:nvSpPr>
        <p:spPr>
          <a:xfrm>
            <a:off x="3203640" y="3992400"/>
            <a:ext cx="5079960" cy="989280"/>
          </a:xfrm>
          <a:custGeom>
            <a:avLst/>
            <a:gdLst>
              <a:gd name="textAreaLeft" fmla="*/ 0 w 5079960"/>
              <a:gd name="textAreaRight" fmla="*/ 5080320 w 5079960"/>
              <a:gd name="textAreaTop" fmla="*/ 0 h 989280"/>
              <a:gd name="textAreaBottom" fmla="*/ 989640 h 989280"/>
            </a:gdLst>
            <a:ahLst/>
            <a:rect l="textAreaLeft" t="textAreaTop" r="textAreaRight" b="textAreaBottom"/>
            <a:pathLst>
              <a:path w="5079365" h="988695">
                <a:moveTo>
                  <a:pt x="88645" y="872236"/>
                </a:moveTo>
                <a:lnTo>
                  <a:pt x="0" y="948563"/>
                </a:lnTo>
                <a:lnTo>
                  <a:pt x="109981" y="988187"/>
                </a:lnTo>
                <a:lnTo>
                  <a:pt x="117347" y="984757"/>
                </a:lnTo>
                <a:lnTo>
                  <a:pt x="119633" y="978154"/>
                </a:lnTo>
                <a:lnTo>
                  <a:pt x="122046" y="971550"/>
                </a:lnTo>
                <a:lnTo>
                  <a:pt x="118618" y="964311"/>
                </a:lnTo>
                <a:lnTo>
                  <a:pt x="96839" y="956437"/>
                </a:lnTo>
                <a:lnTo>
                  <a:pt x="27050" y="956437"/>
                </a:lnTo>
                <a:lnTo>
                  <a:pt x="22478" y="931544"/>
                </a:lnTo>
                <a:lnTo>
                  <a:pt x="68637" y="923033"/>
                </a:lnTo>
                <a:lnTo>
                  <a:pt x="105282" y="891540"/>
                </a:lnTo>
                <a:lnTo>
                  <a:pt x="105791" y="883538"/>
                </a:lnTo>
                <a:lnTo>
                  <a:pt x="96646" y="872871"/>
                </a:lnTo>
                <a:lnTo>
                  <a:pt x="88645" y="872236"/>
                </a:lnTo>
                <a:close/>
              </a:path>
              <a:path w="5079365" h="988695">
                <a:moveTo>
                  <a:pt x="68637" y="923033"/>
                </a:moveTo>
                <a:lnTo>
                  <a:pt x="22478" y="931544"/>
                </a:lnTo>
                <a:lnTo>
                  <a:pt x="27050" y="956437"/>
                </a:lnTo>
                <a:lnTo>
                  <a:pt x="42202" y="953643"/>
                </a:lnTo>
                <a:lnTo>
                  <a:pt x="33019" y="953643"/>
                </a:lnTo>
                <a:lnTo>
                  <a:pt x="29082" y="932053"/>
                </a:lnTo>
                <a:lnTo>
                  <a:pt x="58142" y="932053"/>
                </a:lnTo>
                <a:lnTo>
                  <a:pt x="68637" y="923033"/>
                </a:lnTo>
                <a:close/>
              </a:path>
              <a:path w="5079365" h="988695">
                <a:moveTo>
                  <a:pt x="73195" y="947928"/>
                </a:moveTo>
                <a:lnTo>
                  <a:pt x="27050" y="956437"/>
                </a:lnTo>
                <a:lnTo>
                  <a:pt x="96839" y="956437"/>
                </a:lnTo>
                <a:lnTo>
                  <a:pt x="73195" y="947928"/>
                </a:lnTo>
                <a:close/>
              </a:path>
              <a:path w="5079365" h="988695">
                <a:moveTo>
                  <a:pt x="29082" y="932053"/>
                </a:moveTo>
                <a:lnTo>
                  <a:pt x="33019" y="953643"/>
                </a:lnTo>
                <a:lnTo>
                  <a:pt x="49565" y="939424"/>
                </a:lnTo>
                <a:lnTo>
                  <a:pt x="29082" y="932053"/>
                </a:lnTo>
                <a:close/>
              </a:path>
              <a:path w="5079365" h="988695">
                <a:moveTo>
                  <a:pt x="49565" y="939424"/>
                </a:moveTo>
                <a:lnTo>
                  <a:pt x="33019" y="953643"/>
                </a:lnTo>
                <a:lnTo>
                  <a:pt x="42202" y="953643"/>
                </a:lnTo>
                <a:lnTo>
                  <a:pt x="73195" y="947928"/>
                </a:lnTo>
                <a:lnTo>
                  <a:pt x="49565" y="939424"/>
                </a:lnTo>
                <a:close/>
              </a:path>
              <a:path w="5079365" h="988695">
                <a:moveTo>
                  <a:pt x="5074285" y="0"/>
                </a:moveTo>
                <a:lnTo>
                  <a:pt x="68637" y="923033"/>
                </a:lnTo>
                <a:lnTo>
                  <a:pt x="49565" y="939424"/>
                </a:lnTo>
                <a:lnTo>
                  <a:pt x="73195" y="947928"/>
                </a:lnTo>
                <a:lnTo>
                  <a:pt x="5078857" y="24892"/>
                </a:lnTo>
                <a:lnTo>
                  <a:pt x="5074285" y="0"/>
                </a:lnTo>
                <a:close/>
              </a:path>
              <a:path w="5079365" h="988695">
                <a:moveTo>
                  <a:pt x="58142" y="932053"/>
                </a:moveTo>
                <a:lnTo>
                  <a:pt x="29082" y="932053"/>
                </a:lnTo>
                <a:lnTo>
                  <a:pt x="49565" y="939424"/>
                </a:lnTo>
                <a:lnTo>
                  <a:pt x="58142" y="932053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object 35"/>
          <p:cNvSpPr/>
          <p:nvPr/>
        </p:nvSpPr>
        <p:spPr>
          <a:xfrm>
            <a:off x="5027760" y="3970440"/>
            <a:ext cx="3335040" cy="121896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object 36"/>
          <p:cNvSpPr/>
          <p:nvPr/>
        </p:nvSpPr>
        <p:spPr>
          <a:xfrm>
            <a:off x="5184720" y="3992400"/>
            <a:ext cx="3135240" cy="1046160"/>
          </a:xfrm>
          <a:custGeom>
            <a:avLst/>
            <a:gdLst>
              <a:gd name="textAreaLeft" fmla="*/ 0 w 3135240"/>
              <a:gd name="textAreaRight" fmla="*/ 3135600 w 313524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3136265" h="1045845">
                <a:moveTo>
                  <a:pt x="86106" y="932688"/>
                </a:moveTo>
                <a:lnTo>
                  <a:pt x="78104" y="933069"/>
                </a:lnTo>
                <a:lnTo>
                  <a:pt x="0" y="1020191"/>
                </a:lnTo>
                <a:lnTo>
                  <a:pt x="114300" y="1045337"/>
                </a:lnTo>
                <a:lnTo>
                  <a:pt x="121031" y="1041019"/>
                </a:lnTo>
                <a:lnTo>
                  <a:pt x="124078" y="1027303"/>
                </a:lnTo>
                <a:lnTo>
                  <a:pt x="122286" y="1024509"/>
                </a:lnTo>
                <a:lnTo>
                  <a:pt x="27939" y="1024509"/>
                </a:lnTo>
                <a:lnTo>
                  <a:pt x="20065" y="1000379"/>
                </a:lnTo>
                <a:lnTo>
                  <a:pt x="64781" y="985988"/>
                </a:lnTo>
                <a:lnTo>
                  <a:pt x="97027" y="950087"/>
                </a:lnTo>
                <a:lnTo>
                  <a:pt x="96647" y="942086"/>
                </a:lnTo>
                <a:lnTo>
                  <a:pt x="91439" y="937387"/>
                </a:lnTo>
                <a:lnTo>
                  <a:pt x="86106" y="932688"/>
                </a:lnTo>
                <a:close/>
              </a:path>
              <a:path w="3136265" h="1045845">
                <a:moveTo>
                  <a:pt x="64781" y="985988"/>
                </a:moveTo>
                <a:lnTo>
                  <a:pt x="20065" y="1000379"/>
                </a:lnTo>
                <a:lnTo>
                  <a:pt x="27939" y="1024509"/>
                </a:lnTo>
                <a:lnTo>
                  <a:pt x="38989" y="1020953"/>
                </a:lnTo>
                <a:lnTo>
                  <a:pt x="33400" y="1020953"/>
                </a:lnTo>
                <a:lnTo>
                  <a:pt x="26670" y="999998"/>
                </a:lnTo>
                <a:lnTo>
                  <a:pt x="52207" y="999998"/>
                </a:lnTo>
                <a:lnTo>
                  <a:pt x="64781" y="985988"/>
                </a:lnTo>
                <a:close/>
              </a:path>
              <a:path w="3136265" h="1045845">
                <a:moveTo>
                  <a:pt x="72575" y="1010143"/>
                </a:moveTo>
                <a:lnTo>
                  <a:pt x="27939" y="1024509"/>
                </a:lnTo>
                <a:lnTo>
                  <a:pt x="122286" y="1024509"/>
                </a:lnTo>
                <a:lnTo>
                  <a:pt x="119761" y="1020572"/>
                </a:lnTo>
                <a:lnTo>
                  <a:pt x="72575" y="1010143"/>
                </a:lnTo>
                <a:close/>
              </a:path>
              <a:path w="3136265" h="1045845">
                <a:moveTo>
                  <a:pt x="26670" y="999998"/>
                </a:moveTo>
                <a:lnTo>
                  <a:pt x="33400" y="1020953"/>
                </a:lnTo>
                <a:lnTo>
                  <a:pt x="47980" y="1004707"/>
                </a:lnTo>
                <a:lnTo>
                  <a:pt x="26670" y="999998"/>
                </a:lnTo>
                <a:close/>
              </a:path>
              <a:path w="3136265" h="1045845">
                <a:moveTo>
                  <a:pt x="47980" y="1004707"/>
                </a:moveTo>
                <a:lnTo>
                  <a:pt x="33400" y="1020953"/>
                </a:lnTo>
                <a:lnTo>
                  <a:pt x="38989" y="1020953"/>
                </a:lnTo>
                <a:lnTo>
                  <a:pt x="72575" y="1010143"/>
                </a:lnTo>
                <a:lnTo>
                  <a:pt x="47980" y="1004707"/>
                </a:lnTo>
                <a:close/>
              </a:path>
              <a:path w="3136265" h="1045845">
                <a:moveTo>
                  <a:pt x="3128517" y="0"/>
                </a:moveTo>
                <a:lnTo>
                  <a:pt x="64781" y="985988"/>
                </a:lnTo>
                <a:lnTo>
                  <a:pt x="47980" y="1004707"/>
                </a:lnTo>
                <a:lnTo>
                  <a:pt x="72575" y="1010143"/>
                </a:lnTo>
                <a:lnTo>
                  <a:pt x="3136265" y="24130"/>
                </a:lnTo>
                <a:lnTo>
                  <a:pt x="3128517" y="0"/>
                </a:lnTo>
                <a:close/>
              </a:path>
              <a:path w="3136265" h="1045845">
                <a:moveTo>
                  <a:pt x="52207" y="999998"/>
                </a:moveTo>
                <a:lnTo>
                  <a:pt x="26670" y="999998"/>
                </a:lnTo>
                <a:lnTo>
                  <a:pt x="47980" y="1004707"/>
                </a:lnTo>
                <a:lnTo>
                  <a:pt x="52207" y="999998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object 37"/>
          <p:cNvSpPr/>
          <p:nvPr/>
        </p:nvSpPr>
        <p:spPr>
          <a:xfrm>
            <a:off x="7872480" y="3979800"/>
            <a:ext cx="498240" cy="1281240"/>
          </a:xfrm>
          <a:prstGeom prst="rect">
            <a:avLst/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object 38"/>
          <p:cNvSpPr/>
          <p:nvPr/>
        </p:nvSpPr>
        <p:spPr>
          <a:xfrm>
            <a:off x="7997760" y="4002120"/>
            <a:ext cx="331920" cy="1084320"/>
          </a:xfrm>
          <a:custGeom>
            <a:avLst/>
            <a:gdLst>
              <a:gd name="textAreaLeft" fmla="*/ 0 w 331920"/>
              <a:gd name="textAreaRight" fmla="*/ 332280 w 33192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331470" h="1083945">
                <a:moveTo>
                  <a:pt x="17525" y="959992"/>
                </a:moveTo>
                <a:lnTo>
                  <a:pt x="10795" y="961770"/>
                </a:lnTo>
                <a:lnTo>
                  <a:pt x="3936" y="963675"/>
                </a:lnTo>
                <a:lnTo>
                  <a:pt x="0" y="970660"/>
                </a:lnTo>
                <a:lnTo>
                  <a:pt x="1904" y="977391"/>
                </a:lnTo>
                <a:lnTo>
                  <a:pt x="30860" y="1083436"/>
                </a:lnTo>
                <a:lnTo>
                  <a:pt x="52115" y="1062354"/>
                </a:lnTo>
                <a:lnTo>
                  <a:pt x="49656" y="1062354"/>
                </a:lnTo>
                <a:lnTo>
                  <a:pt x="25146" y="1055877"/>
                </a:lnTo>
                <a:lnTo>
                  <a:pt x="37238" y="1010530"/>
                </a:lnTo>
                <a:lnTo>
                  <a:pt x="26288" y="970660"/>
                </a:lnTo>
                <a:lnTo>
                  <a:pt x="24510" y="963929"/>
                </a:lnTo>
                <a:lnTo>
                  <a:pt x="17525" y="959992"/>
                </a:lnTo>
                <a:close/>
              </a:path>
              <a:path w="331470" h="1083945">
                <a:moveTo>
                  <a:pt x="37238" y="1010530"/>
                </a:moveTo>
                <a:lnTo>
                  <a:pt x="25146" y="1055877"/>
                </a:lnTo>
                <a:lnTo>
                  <a:pt x="49656" y="1062354"/>
                </a:lnTo>
                <a:lnTo>
                  <a:pt x="51418" y="1055750"/>
                </a:lnTo>
                <a:lnTo>
                  <a:pt x="49656" y="1055750"/>
                </a:lnTo>
                <a:lnTo>
                  <a:pt x="28448" y="1050162"/>
                </a:lnTo>
                <a:lnTo>
                  <a:pt x="43903" y="1034801"/>
                </a:lnTo>
                <a:lnTo>
                  <a:pt x="37238" y="1010530"/>
                </a:lnTo>
                <a:close/>
              </a:path>
              <a:path w="331470" h="1083945">
                <a:moveTo>
                  <a:pt x="104012" y="982979"/>
                </a:moveTo>
                <a:lnTo>
                  <a:pt x="96011" y="982979"/>
                </a:lnTo>
                <a:lnTo>
                  <a:pt x="61730" y="1017082"/>
                </a:lnTo>
                <a:lnTo>
                  <a:pt x="49656" y="1062354"/>
                </a:lnTo>
                <a:lnTo>
                  <a:pt x="52115" y="1062354"/>
                </a:lnTo>
                <a:lnTo>
                  <a:pt x="113919" y="1001013"/>
                </a:lnTo>
                <a:lnTo>
                  <a:pt x="113919" y="993012"/>
                </a:lnTo>
                <a:lnTo>
                  <a:pt x="108965" y="987932"/>
                </a:lnTo>
                <a:lnTo>
                  <a:pt x="104012" y="982979"/>
                </a:lnTo>
                <a:close/>
              </a:path>
              <a:path w="331470" h="1083945">
                <a:moveTo>
                  <a:pt x="43903" y="1034801"/>
                </a:moveTo>
                <a:lnTo>
                  <a:pt x="28448" y="1050162"/>
                </a:lnTo>
                <a:lnTo>
                  <a:pt x="49656" y="1055750"/>
                </a:lnTo>
                <a:lnTo>
                  <a:pt x="43903" y="1034801"/>
                </a:lnTo>
                <a:close/>
              </a:path>
              <a:path w="331470" h="1083945">
                <a:moveTo>
                  <a:pt x="61730" y="1017082"/>
                </a:moveTo>
                <a:lnTo>
                  <a:pt x="43903" y="1034801"/>
                </a:lnTo>
                <a:lnTo>
                  <a:pt x="49656" y="1055750"/>
                </a:lnTo>
                <a:lnTo>
                  <a:pt x="51418" y="1055750"/>
                </a:lnTo>
                <a:lnTo>
                  <a:pt x="61730" y="1017082"/>
                </a:lnTo>
                <a:close/>
              </a:path>
              <a:path w="331470" h="1083945">
                <a:moveTo>
                  <a:pt x="306704" y="0"/>
                </a:moveTo>
                <a:lnTo>
                  <a:pt x="37238" y="1010530"/>
                </a:lnTo>
                <a:lnTo>
                  <a:pt x="43903" y="1034801"/>
                </a:lnTo>
                <a:lnTo>
                  <a:pt x="61730" y="1017082"/>
                </a:lnTo>
                <a:lnTo>
                  <a:pt x="331215" y="6603"/>
                </a:lnTo>
                <a:lnTo>
                  <a:pt x="306704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3200" spc="-1" strike="noStrike">
                <a:solidFill>
                  <a:srgbClr val="060678"/>
                </a:solidFill>
                <a:latin typeface="Times New Roman"/>
                <a:ea typeface="Times New Roman"/>
              </a:rPr>
              <a:t>В рамках государственной программы «Энергоэффективность и развитие энергетики ВО на 2014 год»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</a:t>
            </a:r>
            <a:r>
              <a:rPr b="0" lang="ru-RU" sz="3200" spc="-1" strike="noStrike">
                <a:solidFill>
                  <a:srgbClr val="060678"/>
                </a:solidFill>
                <a:latin typeface="Times New Roman"/>
                <a:ea typeface="Times New Roman"/>
              </a:rPr>
              <a:t>Субсидия за счет областног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678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ru-RU" sz="3200" spc="-1" strike="noStrike">
                <a:solidFill>
                  <a:srgbClr val="060678"/>
                </a:solidFill>
                <a:latin typeface="Times New Roman"/>
                <a:ea typeface="Times New Roman"/>
              </a:rPr>
              <a:t>бюджета -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2552,2</a:t>
            </a:r>
            <a:r>
              <a:rPr b="0" lang="ru-RU" sz="3200" spc="-1" strike="noStrike">
                <a:solidFill>
                  <a:srgbClr val="060678"/>
                </a:solidFill>
                <a:latin typeface="Times New Roman"/>
                <a:ea typeface="Times New Roman"/>
              </a:rPr>
              <a:t> тыс. рубл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678"/>
                </a:solidFill>
                <a:latin typeface="Times New Roman"/>
                <a:ea typeface="Times New Roman"/>
              </a:rPr>
              <a:t>Условие выделения-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678"/>
                </a:solidFill>
                <a:latin typeface="Times New Roman"/>
                <a:ea typeface="Times New Roman"/>
              </a:rPr>
              <a:t>софинансирования не мене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678"/>
                </a:solidFill>
                <a:latin typeface="Times New Roman"/>
                <a:ea typeface="Times New Roman"/>
              </a:rPr>
              <a:t>10% от общих затрат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678"/>
                </a:solidFill>
                <a:latin typeface="Times New Roman"/>
                <a:ea typeface="Times New Roman"/>
              </a:rPr>
              <a:t>за счет местных бюджет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678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60678"/>
                </a:solidFill>
                <a:latin typeface="Times New Roman"/>
                <a:ea typeface="Times New Roman"/>
              </a:rPr>
              <a:t>поселен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53" name="Picture 2" descr="E:\доклад исполнение бюджета 2013\10.jpg"/>
          <p:cNvPicPr/>
          <p:nvPr/>
        </p:nvPicPr>
        <p:blipFill>
          <a:blip r:embed="rId1"/>
          <a:stretch/>
        </p:blipFill>
        <p:spPr>
          <a:xfrm>
            <a:off x="152280" y="1600200"/>
            <a:ext cx="3353040" cy="22096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3" descr="E:\доклад исполнение бюджета 2013\11.jpg"/>
          <p:cNvPicPr/>
          <p:nvPr/>
        </p:nvPicPr>
        <p:blipFill>
          <a:blip r:embed="rId2"/>
          <a:stretch/>
        </p:blipFill>
        <p:spPr>
          <a:xfrm>
            <a:off x="5038560" y="3786120"/>
            <a:ext cx="410544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3"/>
          <p:cNvSpPr/>
          <p:nvPr/>
        </p:nvSpPr>
        <p:spPr>
          <a:xfrm>
            <a:off x="228600" y="1143000"/>
            <a:ext cx="8534520" cy="1169280"/>
          </a:xfrm>
          <a:prstGeom prst="rect">
            <a:avLst/>
          </a:prstGeom>
          <a:gradFill rotWithShape="0">
            <a:gsLst>
              <a:gs pos="0">
                <a:srgbClr val="3891a7"/>
              </a:gs>
              <a:gs pos="100000">
                <a:srgbClr val="1a43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Динамика расходов районного бюджет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на социально-культурную сферы (млн. рублей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6" name="Диаграмма 18" descr=""/>
          <p:cNvPicPr/>
          <p:nvPr/>
        </p:nvPicPr>
        <p:blipFill>
          <a:blip r:embed="rId1"/>
          <a:stretch/>
        </p:blipFill>
        <p:spPr>
          <a:xfrm>
            <a:off x="711360" y="2311560"/>
            <a:ext cx="779760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3"/>
          <p:cNvSpPr/>
          <p:nvPr/>
        </p:nvSpPr>
        <p:spPr>
          <a:xfrm>
            <a:off x="266760" y="990720"/>
            <a:ext cx="8610480" cy="581400"/>
          </a:xfrm>
          <a:prstGeom prst="rect">
            <a:avLst/>
          </a:prstGeom>
          <a:gradFill rotWithShape="0">
            <a:gsLst>
              <a:gs pos="0">
                <a:srgbClr val="3891a7"/>
              </a:gs>
              <a:gs pos="100000">
                <a:srgbClr val="1a43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Социальные выплат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1143000" y="1752480"/>
          <a:ext cx="7621560" cy="5105520"/>
        </p:xfrm>
        <a:graphic>
          <a:graphicData uri="http://schemas.openxmlformats.org/drawingml/2006/table">
            <a:tbl>
              <a:tblPr/>
              <a:tblGrid>
                <a:gridCol w="4818240"/>
                <a:gridCol w="1514160"/>
                <a:gridCol w="1289160"/>
              </a:tblGrid>
              <a:tr h="54144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bf3"/>
                        </a:gs>
                        <a:gs pos="100000">
                          <a:srgbClr val="ffea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Сумма, тыс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bf3"/>
                        </a:gs>
                        <a:gs pos="100000">
                          <a:srgbClr val="ffea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Источни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bf3"/>
                        </a:gs>
                        <a:gs pos="100000">
                          <a:srgbClr val="ffeab6"/>
                        </a:gs>
                      </a:gsLst>
                      <a:lin ang="5400000"/>
                    </a:gradFill>
                  </a:tcPr>
                </a:tc>
              </a:tr>
              <a:tr h="241200"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Доплата к пенсиям муниципальным служащ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2 16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район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Оказание  материальной помощи граждан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13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район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Выплаты единовременного пособия при всех формах устройства детей, лишенных родительского попечения, в сем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20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федер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Выплаты вознаграждения, причитающегося приемному родит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1 9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област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Выплаты приемной семье на содержание подопечных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6 39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област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Выплаты единовременного пособия при передаче ребенка на воспитание в сем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област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2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Выплаты единовременного пособия при устройстве в семью ребенка-инвалида или ребенка, достигшего возраста 10 лет, а также при одновременной передаче на воспитание в семью ребенка вместе с его братьями (сестрам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8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област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Компенсация  части родительской платы за содержание детей в дошкольных учрежде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1 15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област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Финансовая поддержка общественны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14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472319"/>
                          </a:solidFill>
                          <a:latin typeface="Times New Roman"/>
                          <a:ea typeface="Times New Roman"/>
                        </a:rPr>
                        <a:t>райо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Содержимое 5" descr=""/>
          <p:cNvPicPr/>
          <p:nvPr/>
        </p:nvPicPr>
        <p:blipFill>
          <a:blip r:embed="rId1"/>
          <a:stretch/>
        </p:blipFill>
        <p:spPr>
          <a:xfrm>
            <a:off x="4995720" y="1285920"/>
            <a:ext cx="4148280" cy="557208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2862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846a3"/>
                </a:solidFill>
                <a:latin typeface="Times New Roman"/>
                <a:ea typeface="Times New Roman"/>
              </a:rPr>
              <a:t>Размер дотаций местным бюджетам городского и сельских поселений Хохольского района за 2014 и в динамике за период    2012-2014 годы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61" name="Object 4" descr=""/>
          <p:cNvPicPr/>
          <p:nvPr/>
        </p:nvPicPr>
        <p:blipFill>
          <a:blip r:embed="rId2"/>
          <a:stretch/>
        </p:blipFill>
        <p:spPr>
          <a:xfrm>
            <a:off x="0" y="1214280"/>
            <a:ext cx="5000760" cy="542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03040" y="0"/>
            <a:ext cx="80722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</a:rPr>
              <a:t>Финансовая поддержка местных бюджетов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</a:rPr>
              <a:t> поселений за счет районного бюджета Хохольского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</a:rPr>
              <a:t>муниципального района 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</a:rPr>
              <a:t>за период 2008-2014 гг. </a:t>
            </a:r>
            <a:endParaRPr b="0" lang="en-US" sz="21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63" name="Object 2" descr=""/>
          <p:cNvPicPr/>
          <p:nvPr/>
        </p:nvPicPr>
        <p:blipFill>
          <a:blip r:embed="rId1"/>
          <a:stretch/>
        </p:blipFill>
        <p:spPr>
          <a:xfrm>
            <a:off x="-181080" y="1333440"/>
            <a:ext cx="9096480" cy="551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48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58d01"/>
                </a:solidFill>
                <a:latin typeface="Times New Roman"/>
                <a:ea typeface="Times New Roman"/>
              </a:rPr>
              <a:t>Результаты закупок товаров, работ и услуг для муниципальных нужд в соответствии с Федеральным Законом № 44 -ФЗ на конкурсной основе</a:t>
            </a:r>
            <a:br>
              <a:rPr sz="2000"/>
            </a:br>
            <a:r>
              <a:rPr b="0" lang="ru-RU" sz="1400" spc="-1" strike="noStrike">
                <a:solidFill>
                  <a:srgbClr val="c58d01"/>
                </a:solidFill>
                <a:latin typeface="Times New Roman"/>
                <a:ea typeface="Times New Roman"/>
              </a:rPr>
              <a:t> за 2014 год ( тыс. рублей) </a:t>
            </a:r>
            <a:r>
              <a:rPr b="0" lang="ru-RU" sz="14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65" name="Содержимое 4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4214880" cy="2786040"/>
          </a:xfrm>
          <a:prstGeom prst="rect">
            <a:avLst/>
          </a:prstGeom>
          <a:ln w="0">
            <a:noFill/>
          </a:ln>
        </p:spPr>
      </p:pic>
      <p:pic>
        <p:nvPicPr>
          <p:cNvPr id="666" name="Object 3" descr=""/>
          <p:cNvPicPr/>
          <p:nvPr/>
        </p:nvPicPr>
        <p:blipFill>
          <a:blip r:embed="rId2"/>
          <a:stretch/>
        </p:blipFill>
        <p:spPr>
          <a:xfrm>
            <a:off x="4786200" y="3929040"/>
            <a:ext cx="3963960" cy="2928960"/>
          </a:xfrm>
          <a:prstGeom prst="rect">
            <a:avLst/>
          </a:prstGeom>
          <a:ln w="0">
            <a:noFill/>
          </a:ln>
        </p:spPr>
      </p:pic>
      <p:pic>
        <p:nvPicPr>
          <p:cNvPr id="667" name="Object 4" descr=""/>
          <p:cNvPicPr/>
          <p:nvPr/>
        </p:nvPicPr>
        <p:blipFill>
          <a:blip r:embed="rId3"/>
          <a:stretch/>
        </p:blipFill>
        <p:spPr>
          <a:xfrm>
            <a:off x="217440" y="3857760"/>
            <a:ext cx="4211640" cy="3000240"/>
          </a:xfrm>
          <a:prstGeom prst="rect">
            <a:avLst/>
          </a:prstGeom>
          <a:ln w="0">
            <a:noFill/>
          </a:ln>
        </p:spPr>
      </p:pic>
      <p:pic>
        <p:nvPicPr>
          <p:cNvPr id="668" name="Object 5" descr=""/>
          <p:cNvPicPr/>
          <p:nvPr/>
        </p:nvPicPr>
        <p:blipFill>
          <a:blip r:embed="rId4"/>
          <a:stretch/>
        </p:blipFill>
        <p:spPr>
          <a:xfrm>
            <a:off x="4786200" y="892080"/>
            <a:ext cx="3889440" cy="29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4"/>
          <p:cNvSpPr/>
          <p:nvPr/>
        </p:nvSpPr>
        <p:spPr>
          <a:xfrm>
            <a:off x="53352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271c"/>
                </a:solidFill>
                <a:latin typeface="Tahoma"/>
              </a:rPr>
              <a:t>3.Источники финансирования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34960" y="165240"/>
            <a:ext cx="74995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0" bIns="0" anchor="ctr">
            <a:noAutofit/>
          </a:bodyPr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Не всегда доходы бывают равны расходам, поэтому бюджет бывает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1" name="object 4"/>
          <p:cNvSpPr/>
          <p:nvPr/>
        </p:nvSpPr>
        <p:spPr>
          <a:xfrm>
            <a:off x="700200" y="1069920"/>
            <a:ext cx="2555640" cy="133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object 5"/>
          <p:cNvSpPr/>
          <p:nvPr/>
        </p:nvSpPr>
        <p:spPr>
          <a:xfrm>
            <a:off x="981000" y="1612800"/>
            <a:ext cx="19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ФИЦИТ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object 6"/>
          <p:cNvSpPr/>
          <p:nvPr/>
        </p:nvSpPr>
        <p:spPr>
          <a:xfrm>
            <a:off x="3276720" y="1916280"/>
            <a:ext cx="2590560" cy="2736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object 7"/>
          <p:cNvSpPr/>
          <p:nvPr/>
        </p:nvSpPr>
        <p:spPr>
          <a:xfrm>
            <a:off x="990720" y="2790720"/>
            <a:ext cx="2593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8120" algn="ctr">
              <a:lnSpc>
                <a:spcPct val="100000"/>
              </a:lnSpc>
              <a:tabLst>
                <a:tab algn="l" pos="0"/>
                <a:tab algn="l" pos="1677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23b"/>
                </a:solidFill>
                <a:latin typeface="Times New Roman"/>
                <a:ea typeface="Times New Roman"/>
              </a:rPr>
              <a:t>ДОХОД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68120" algn="ctr">
              <a:lnSpc>
                <a:spcPct val="100000"/>
              </a:lnSpc>
              <a:tabLst>
                <a:tab algn="l" pos="0"/>
                <a:tab algn="l" pos="1677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23b"/>
                </a:solidFill>
                <a:latin typeface="Times New Roman"/>
                <a:ea typeface="Times New Roman"/>
              </a:rPr>
              <a:t>меньше РАСХОД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1677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6812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1677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168120" algn="ctr">
              <a:lnSpc>
                <a:spcPct val="100000"/>
              </a:lnSpc>
              <a:tabLst>
                <a:tab algn="l" pos="0"/>
                <a:tab algn="l" pos="1677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74707"/>
                </a:solidFill>
                <a:latin typeface="Times New Roman"/>
                <a:ea typeface="Times New Roman"/>
              </a:rPr>
              <a:t>НЕДОСТАЮЩИЕ СРЕДСТВА БЕРУТ В ДОЛГ ИЛИ ИЗ НАКОПЛ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object 8"/>
          <p:cNvSpPr/>
          <p:nvPr/>
        </p:nvSpPr>
        <p:spPr>
          <a:xfrm>
            <a:off x="5810400" y="1143000"/>
            <a:ext cx="2771640" cy="1330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008400" y="1684440"/>
            <a:ext cx="249084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ИЦИТНЫ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2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23b"/>
                </a:solidFill>
                <a:latin typeface="Times New Roman"/>
                <a:ea typeface="Times New Roman"/>
              </a:rPr>
              <a:t>ДОХОДЫ больше РАСХОД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1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74707"/>
                </a:solidFill>
                <a:latin typeface="Times New Roman"/>
                <a:ea typeface="Times New Roman"/>
              </a:rPr>
              <a:t>ИЗЛИШКИ СРЕДСТВ НАПРАВЛЯЮ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74707"/>
                </a:solidFill>
                <a:latin typeface="Times New Roman"/>
                <a:ea typeface="Times New Roman"/>
              </a:rPr>
              <a:t>В НАКОПЛЕНИЯ ОСТАТК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7" name="object 10"/>
          <p:cNvSpPr/>
          <p:nvPr/>
        </p:nvSpPr>
        <p:spPr>
          <a:xfrm>
            <a:off x="2057400" y="3962520"/>
            <a:ext cx="431640" cy="57600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432435" h="576579">
                <a:moveTo>
                  <a:pt x="432054" y="360045"/>
                </a:moveTo>
                <a:lnTo>
                  <a:pt x="0" y="360045"/>
                </a:lnTo>
                <a:lnTo>
                  <a:pt x="216027" y="576072"/>
                </a:lnTo>
                <a:lnTo>
                  <a:pt x="432054" y="360045"/>
                </a:lnTo>
                <a:close/>
              </a:path>
              <a:path w="432435" h="576579">
                <a:moveTo>
                  <a:pt x="324104" y="0"/>
                </a:moveTo>
                <a:lnTo>
                  <a:pt x="108077" y="0"/>
                </a:lnTo>
                <a:lnTo>
                  <a:pt x="108077" y="360045"/>
                </a:lnTo>
                <a:lnTo>
                  <a:pt x="324104" y="360045"/>
                </a:lnTo>
                <a:lnTo>
                  <a:pt x="324104" y="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object 11"/>
          <p:cNvSpPr/>
          <p:nvPr/>
        </p:nvSpPr>
        <p:spPr>
          <a:xfrm>
            <a:off x="2057400" y="3962520"/>
            <a:ext cx="431640" cy="57600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432435" h="576579">
                <a:moveTo>
                  <a:pt x="0" y="360045"/>
                </a:moveTo>
                <a:lnTo>
                  <a:pt x="108077" y="360045"/>
                </a:lnTo>
                <a:lnTo>
                  <a:pt x="108077" y="0"/>
                </a:lnTo>
                <a:lnTo>
                  <a:pt x="324104" y="0"/>
                </a:lnTo>
                <a:lnTo>
                  <a:pt x="324104" y="360045"/>
                </a:lnTo>
                <a:lnTo>
                  <a:pt x="432054" y="360045"/>
                </a:lnTo>
                <a:lnTo>
                  <a:pt x="216027" y="576072"/>
                </a:lnTo>
                <a:lnTo>
                  <a:pt x="0" y="360045"/>
                </a:lnTo>
                <a:close/>
              </a:path>
            </a:pathLst>
          </a:custGeom>
          <a:noFill/>
          <a:ln w="25560">
            <a:solidFill>
              <a:srgbClr val="92c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object 12"/>
          <p:cNvSpPr/>
          <p:nvPr/>
        </p:nvSpPr>
        <p:spPr>
          <a:xfrm>
            <a:off x="6934320" y="3809880"/>
            <a:ext cx="431640" cy="57636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32434" h="576579">
                <a:moveTo>
                  <a:pt x="432053" y="360044"/>
                </a:moveTo>
                <a:lnTo>
                  <a:pt x="0" y="360044"/>
                </a:lnTo>
                <a:lnTo>
                  <a:pt x="216026" y="576071"/>
                </a:lnTo>
                <a:lnTo>
                  <a:pt x="432053" y="360044"/>
                </a:lnTo>
                <a:close/>
              </a:path>
              <a:path w="432434" h="576579">
                <a:moveTo>
                  <a:pt x="323976" y="0"/>
                </a:moveTo>
                <a:lnTo>
                  <a:pt x="107950" y="0"/>
                </a:lnTo>
                <a:lnTo>
                  <a:pt x="107950" y="360044"/>
                </a:lnTo>
                <a:lnTo>
                  <a:pt x="323976" y="360044"/>
                </a:lnTo>
                <a:lnTo>
                  <a:pt x="323976" y="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3"/>
          <p:cNvSpPr/>
          <p:nvPr/>
        </p:nvSpPr>
        <p:spPr>
          <a:xfrm>
            <a:off x="1295280" y="990720"/>
            <a:ext cx="7581960" cy="1191240"/>
          </a:xfrm>
          <a:prstGeom prst="rect">
            <a:avLst/>
          </a:prstGeom>
          <a:gradFill rotWithShape="0">
            <a:gsLst>
              <a:gs pos="0">
                <a:srgbClr val="3891a7"/>
              </a:gs>
              <a:gs pos="100000">
                <a:srgbClr val="1a43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структуры муниципального долг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юджета Хохольского муниципального райо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тыс. рубле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1" name="Диаграмма 14" descr=""/>
          <p:cNvPicPr/>
          <p:nvPr/>
        </p:nvPicPr>
        <p:blipFill>
          <a:blip r:embed="rId1"/>
          <a:stretch/>
        </p:blipFill>
        <p:spPr>
          <a:xfrm>
            <a:off x="787320" y="2438280"/>
            <a:ext cx="772164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4"/>
          <p:cNvSpPr/>
          <p:nvPr/>
        </p:nvSpPr>
        <p:spPr>
          <a:xfrm>
            <a:off x="53352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271c"/>
                </a:solidFill>
                <a:latin typeface="Tahoma"/>
              </a:rPr>
              <a:t>4.Муниципальный долг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object 2"/>
          <p:cNvSpPr/>
          <p:nvPr/>
        </p:nvSpPr>
        <p:spPr>
          <a:xfrm>
            <a:off x="270000" y="2533680"/>
            <a:ext cx="4064040" cy="1036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object 3"/>
          <p:cNvSpPr/>
          <p:nvPr/>
        </p:nvSpPr>
        <p:spPr>
          <a:xfrm>
            <a:off x="828720" y="2865600"/>
            <a:ext cx="3209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ный  бюдж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object 15"/>
          <p:cNvSpPr/>
          <p:nvPr/>
        </p:nvSpPr>
        <p:spPr>
          <a:xfrm>
            <a:off x="3990960" y="1879560"/>
            <a:ext cx="1157400" cy="693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object 16"/>
          <p:cNvSpPr/>
          <p:nvPr/>
        </p:nvSpPr>
        <p:spPr>
          <a:xfrm>
            <a:off x="4267080" y="4419720"/>
            <a:ext cx="2057400" cy="2392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object 20"/>
          <p:cNvSpPr/>
          <p:nvPr/>
        </p:nvSpPr>
        <p:spPr>
          <a:xfrm>
            <a:off x="4419720" y="4800600"/>
            <a:ext cx="1752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381240"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2600" indent="381240"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городского посел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object 21"/>
          <p:cNvSpPr/>
          <p:nvPr/>
        </p:nvSpPr>
        <p:spPr>
          <a:xfrm>
            <a:off x="6553080" y="4419720"/>
            <a:ext cx="2210040" cy="2392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object 27"/>
          <p:cNvSpPr/>
          <p:nvPr/>
        </p:nvSpPr>
        <p:spPr>
          <a:xfrm>
            <a:off x="6629400" y="4800600"/>
            <a:ext cx="2057400" cy="18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468360"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2600" indent="468360"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ых  бюджетов сельских посел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object 28"/>
          <p:cNvSpPr/>
          <p:nvPr/>
        </p:nvSpPr>
        <p:spPr>
          <a:xfrm>
            <a:off x="6095880" y="3809880"/>
            <a:ext cx="960480" cy="6033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object 29"/>
          <p:cNvSpPr/>
          <p:nvPr/>
        </p:nvSpPr>
        <p:spPr>
          <a:xfrm>
            <a:off x="2487600" y="663480"/>
            <a:ext cx="4237200" cy="11923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object 30"/>
          <p:cNvSpPr/>
          <p:nvPr/>
        </p:nvSpPr>
        <p:spPr>
          <a:xfrm>
            <a:off x="2514600" y="762120"/>
            <a:ext cx="4191120" cy="9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8000" indent="-95400" algn="ctr">
              <a:lnSpc>
                <a:spcPts val="2585"/>
              </a:lnSpc>
              <a:tabLst>
                <a:tab algn="l" pos="0"/>
                <a:tab algn="l" pos="215748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АЯ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Хохольского муниципального района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object 31"/>
          <p:cNvSpPr/>
          <p:nvPr/>
        </p:nvSpPr>
        <p:spPr>
          <a:xfrm>
            <a:off x="4805280" y="2533680"/>
            <a:ext cx="4064040" cy="1036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object 32"/>
          <p:cNvSpPr/>
          <p:nvPr/>
        </p:nvSpPr>
        <p:spPr>
          <a:xfrm>
            <a:off x="5181480" y="2865600"/>
            <a:ext cx="3429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местных бюджетов посел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1920" y="225000"/>
            <a:ext cx="878220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0" bIns="0" anchor="ctr">
            <a:noAutofit/>
          </a:bodyPr>
          <a:p>
            <a:pPr marL="13143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кова бюджетная система Хохольского муниципального района </a:t>
            </a: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?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6"/>
          <p:cNvSpPr/>
          <p:nvPr/>
        </p:nvSpPr>
        <p:spPr>
          <a:xfrm>
            <a:off x="0" y="571680"/>
            <a:ext cx="9144000" cy="4000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влечены бюджетные  кредиты                       265, 5 млн. рубл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едоставлены кредиты поселениям                  148,0 млн. рубл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гашены бюджетные кредиты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6,1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млн. рубл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гашены кредиты поселениями                            15,2 млн. рублей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структуризированные обязательства               205,7 млн. рубле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структуризированные обязательств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селениям                                                                   127,9 млн. рубле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cacbe0"/>
          </a:solidFill>
          <a:ln w="9360">
            <a:solidFill>
              <a:srgbClr val="c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олженность по бюджетным ссудам и кредита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01.01.2015 го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77,8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лн. рубл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ммерческие кредиты банков не привлекались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униципальные гарантии  и  другие обязательства, в соответствии с видами долговых обязательств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е предоставлялись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AutoShape 8"/>
          <p:cNvSpPr/>
          <p:nvPr/>
        </p:nvSpPr>
        <p:spPr>
          <a:xfrm rot="1350000">
            <a:off x="102960" y="4060800"/>
            <a:ext cx="826920" cy="703440"/>
          </a:xfrm>
          <a:custGeom>
            <a:avLst/>
            <a:gdLst>
              <a:gd name="textAreaLeft" fmla="*/ 129240 w 826920"/>
              <a:gd name="textAreaRight" fmla="*/ 716760 w 826920"/>
              <a:gd name="textAreaTop" fmla="*/ 151200 h 703440"/>
              <a:gd name="textAreaBottom" fmla="*/ 552240 h 703440"/>
            </a:gdLst>
            <a:ahLst/>
            <a:rect l="textAreaLeft" t="textAreaTop" r="textAreaRight" b="textAreaBottom"/>
            <a:pathLst>
              <a:path w="21600" h="21600">
                <a:moveTo>
                  <a:pt x="16546" y="0"/>
                </a:moveTo>
                <a:lnTo>
                  <a:pt x="16546" y="4650"/>
                </a:lnTo>
                <a:lnTo>
                  <a:pt x="3375" y="4650"/>
                </a:lnTo>
                <a:lnTo>
                  <a:pt x="3375" y="16950"/>
                </a:lnTo>
                <a:lnTo>
                  <a:pt x="16546" y="16950"/>
                </a:lnTo>
                <a:lnTo>
                  <a:pt x="16546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4650"/>
                </a:moveTo>
                <a:lnTo>
                  <a:pt x="1350" y="16950"/>
                </a:lnTo>
                <a:lnTo>
                  <a:pt x="2700" y="16950"/>
                </a:lnTo>
                <a:lnTo>
                  <a:pt x="2700" y="4650"/>
                </a:lnTo>
                <a:close/>
              </a:path>
              <a:path w="21600" h="21600">
                <a:moveTo>
                  <a:pt x="0" y="4650"/>
                </a:moveTo>
                <a:lnTo>
                  <a:pt x="0" y="16950"/>
                </a:lnTo>
                <a:lnTo>
                  <a:pt x="675" y="16950"/>
                </a:lnTo>
                <a:lnTo>
                  <a:pt x="675" y="4650"/>
                </a:lnTo>
                <a:close/>
              </a:path>
            </a:pathLst>
          </a:custGeom>
          <a:gradFill rotWithShape="0">
            <a:gsLst>
              <a:gs pos="0">
                <a:srgbClr val="363640"/>
              </a:gs>
              <a:gs pos="50000">
                <a:srgbClr val="adafcf"/>
              </a:gs>
              <a:gs pos="100000">
                <a:srgbClr val="363640"/>
              </a:gs>
            </a:gsLst>
            <a:lin ang="135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Rectangle 5"/>
          <p:cNvSpPr/>
          <p:nvPr/>
        </p:nvSpPr>
        <p:spPr>
          <a:xfrm>
            <a:off x="0" y="0"/>
            <a:ext cx="9144000" cy="85572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Муниципальные долговые обязательства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о итогам 2014г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53352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271c"/>
                </a:solidFill>
                <a:latin typeface="Tahoma"/>
              </a:rPr>
              <a:t>5. Дополнительная информация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оходы и расходы районного бюджета Хохольского муниципального района на 1 жителя (тыс. рублей)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0" y="1571760"/>
          <a:ext cx="9144000" cy="5543280"/>
        </p:xfrm>
        <a:graphic>
          <a:graphicData uri="http://schemas.openxmlformats.org/drawingml/2006/table">
            <a:tbl>
              <a:tblPr/>
              <a:tblGrid>
                <a:gridCol w="2905200"/>
                <a:gridCol w="2209680"/>
                <a:gridCol w="2266920"/>
                <a:gridCol w="1762200"/>
              </a:tblGrid>
              <a:tr h="503280"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ь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 год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3 год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 год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73728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, тыс.рубле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6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2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86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73728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, тыс.рубле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6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93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5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42452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селения на отчетную дату, чел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07136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на 1 жителя, тыс.рубле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956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на 1 жителя, тыс.рубле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TextBox 4"/>
          <p:cNvGrpSpPr/>
          <p:nvPr/>
        </p:nvGrpSpPr>
        <p:grpSpPr>
          <a:xfrm>
            <a:off x="3297240" y="2176560"/>
            <a:ext cx="5541840" cy="1908000"/>
            <a:chOff x="3297240" y="2176560"/>
            <a:chExt cx="5541840" cy="1908000"/>
          </a:xfrm>
        </p:grpSpPr>
        <p:pic>
          <p:nvPicPr>
            <p:cNvPr id="691" name="TextBox 4" descr=""/>
            <p:cNvPicPr/>
            <p:nvPr/>
          </p:nvPicPr>
          <p:blipFill>
            <a:blip r:embed="rId1"/>
            <a:stretch/>
          </p:blipFill>
          <p:spPr>
            <a:xfrm>
              <a:off x="3297240" y="2176560"/>
              <a:ext cx="554184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3357720" y="2214720"/>
              <a:ext cx="5429160" cy="17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формационный администрации Хохольского муниципального района- это гарантия доступности всей необходимой информации для каждого. 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сайте представлены нормативные акты, принятые администрацией района, которые касаются повседневной жизни жителей района. На сайте выложена самая актуальная информация о социально-экономическом развитии района, планы и программы по газификации территорий, по строительству и реконструкции наших учреждений и прочее. На сайте размещена вся справочная информация о районе, телефоны руководителей, служб и подразделений. Здесь же можно найти новости, фото и видео о нашем районе.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95280" y="534600"/>
            <a:ext cx="6554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дминистрация Хохольского муниципального района размещает информацию о своей деятельности: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94" name="Picture 2" descr=""/>
          <p:cNvPicPr/>
          <p:nvPr/>
        </p:nvPicPr>
        <p:blipFill>
          <a:blip r:embed="rId2"/>
          <a:stretch/>
        </p:blipFill>
        <p:spPr>
          <a:xfrm>
            <a:off x="0" y="2214720"/>
            <a:ext cx="3357720" cy="1071360"/>
          </a:xfrm>
          <a:prstGeom prst="rect">
            <a:avLst/>
          </a:prstGeom>
          <a:ln w="0">
            <a:noFill/>
          </a:ln>
        </p:spPr>
      </p:pic>
      <p:sp>
        <p:nvSpPr>
          <p:cNvPr id="695" name="TextBox 6"/>
          <p:cNvSpPr/>
          <p:nvPr/>
        </p:nvSpPr>
        <p:spPr>
          <a:xfrm>
            <a:off x="0" y="3571920"/>
            <a:ext cx="3357720" cy="276480"/>
          </a:xfrm>
          <a:prstGeom prst="rect">
            <a:avLst/>
          </a:prstGeom>
          <a:solidFill>
            <a:srgbClr val="eac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oholadm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6" name="Picture 3" descr=""/>
          <p:cNvPicPr/>
          <p:nvPr/>
        </p:nvPicPr>
        <p:blipFill>
          <a:blip r:embed="rId3"/>
          <a:stretch/>
        </p:blipFill>
        <p:spPr>
          <a:xfrm>
            <a:off x="0" y="3857760"/>
            <a:ext cx="3357720" cy="3000240"/>
          </a:xfrm>
          <a:prstGeom prst="rect">
            <a:avLst/>
          </a:prstGeom>
          <a:ln w="0">
            <a:noFill/>
          </a:ln>
        </p:spPr>
      </p:pic>
      <p:grpSp>
        <p:nvGrpSpPr>
          <p:cNvPr id="697" name="TextBox 9"/>
          <p:cNvGrpSpPr/>
          <p:nvPr/>
        </p:nvGrpSpPr>
        <p:grpSpPr>
          <a:xfrm>
            <a:off x="3297240" y="5462640"/>
            <a:ext cx="5541840" cy="1869480"/>
            <a:chOff x="3297240" y="5462640"/>
            <a:chExt cx="5541840" cy="1869480"/>
          </a:xfrm>
        </p:grpSpPr>
        <p:pic>
          <p:nvPicPr>
            <p:cNvPr id="698" name="TextBox 9" descr=""/>
            <p:cNvPicPr/>
            <p:nvPr/>
          </p:nvPicPr>
          <p:blipFill>
            <a:blip r:embed="rId4"/>
            <a:stretch/>
          </p:blipFill>
          <p:spPr>
            <a:xfrm>
              <a:off x="3297240" y="5462640"/>
              <a:ext cx="554184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3357720" y="5500800"/>
              <a:ext cx="5429160" cy="18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Инструментарий портала позволяет анализировать представленную информацию о бюджетах, фиксировать отклонения от плановых значений показателей, проводить сравнение по годам  как в рамках одного муниципального образования, так и между муниципальными образованиями одного региона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00" name="TextBox 8" descr=""/>
          <p:cNvPicPr/>
          <p:nvPr/>
        </p:nvPicPr>
        <p:blipFill>
          <a:blip r:embed="rId5"/>
          <a:stretch/>
        </p:blipFill>
        <p:spPr>
          <a:xfrm>
            <a:off x="3340080" y="3876840"/>
            <a:ext cx="54561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нтактная информация для граждан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нахождения Финансового отдела Администрации Хохольского муниципального района Воронежской области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 Ленина д.8, р.п. Хохольский, Воронежской обл, 396840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03" name="Схема 3" descr=""/>
          <p:cNvPicPr/>
          <p:nvPr/>
        </p:nvPicPr>
        <p:blipFill>
          <a:blip r:embed="rId1"/>
          <a:stretch/>
        </p:blipFill>
        <p:spPr>
          <a:xfrm>
            <a:off x="-6480" y="2279520"/>
            <a:ext cx="902808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a8a14"/>
                </a:solidFill>
                <a:latin typeface="Times New Roman"/>
              </a:rPr>
              <a:t>ОСНОВНЫЕ ПАРАМЕТРЫ РАЙОННОГО БЮДЖЕТА ХОХОЛЬСКОГО МУНИЦИПАЛЬНОГО РАЙОНА </a:t>
            </a:r>
            <a:br>
              <a:rPr sz="2200"/>
            </a:br>
            <a:r>
              <a:rPr b="1" lang="ru-RU" sz="2200" spc="-1" strike="noStrike">
                <a:solidFill>
                  <a:srgbClr val="aa8a14"/>
                </a:solidFill>
                <a:latin typeface="Times New Roman"/>
              </a:rPr>
              <a:t>ЗА 2014 ГОД (</a:t>
            </a:r>
            <a:r>
              <a:rPr b="1" lang="ru-RU" sz="1100" spc="-1" strike="noStrike">
                <a:solidFill>
                  <a:srgbClr val="aa8a14"/>
                </a:solidFill>
                <a:latin typeface="Times New Roman"/>
              </a:rPr>
              <a:t>ТЫС.РУБЛЕЙ</a:t>
            </a:r>
            <a:r>
              <a:rPr b="1" lang="ru-RU" sz="2200" spc="-1" strike="noStrike">
                <a:solidFill>
                  <a:srgbClr val="aa8a14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7" name="AutoShape 29"/>
          <p:cNvSpPr/>
          <p:nvPr/>
        </p:nvSpPr>
        <p:spPr>
          <a:xfrm>
            <a:off x="6248520" y="1828800"/>
            <a:ext cx="266688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a434d"/>
              </a:gs>
              <a:gs pos="50000">
                <a:srgbClr val="3891a7"/>
              </a:gs>
              <a:gs pos="100000">
                <a:srgbClr val="1a43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Text Box 30"/>
          <p:cNvSpPr/>
          <p:nvPr/>
        </p:nvSpPr>
        <p:spPr>
          <a:xfrm>
            <a:off x="1066680" y="30481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AutoShape 36"/>
          <p:cNvSpPr/>
          <p:nvPr/>
        </p:nvSpPr>
        <p:spPr>
          <a:xfrm>
            <a:off x="3352680" y="3962520"/>
            <a:ext cx="2667240" cy="259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a434d"/>
              </a:gs>
              <a:gs pos="50000">
                <a:srgbClr val="3891a7"/>
              </a:gs>
              <a:gs pos="100000">
                <a:srgbClr val="1a43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AutoShape 37"/>
          <p:cNvSpPr/>
          <p:nvPr/>
        </p:nvSpPr>
        <p:spPr>
          <a:xfrm>
            <a:off x="457200" y="1981080"/>
            <a:ext cx="266688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a434d"/>
              </a:gs>
              <a:gs pos="50000">
                <a:srgbClr val="3891a7"/>
              </a:gs>
              <a:gs pos="100000">
                <a:srgbClr val="1a43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 Box 42"/>
          <p:cNvSpPr/>
          <p:nvPr/>
        </p:nvSpPr>
        <p:spPr>
          <a:xfrm>
            <a:off x="76212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dec9"/>
                </a:solidFill>
                <a:latin typeface="Times New Roman"/>
              </a:rPr>
              <a:t>Доход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ext Box 43"/>
          <p:cNvSpPr/>
          <p:nvPr/>
        </p:nvSpPr>
        <p:spPr>
          <a:xfrm>
            <a:off x="3505320" y="43434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dec9"/>
                </a:solidFill>
                <a:latin typeface="Times New Roman"/>
              </a:rPr>
              <a:t>Дефици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Text Box 44"/>
          <p:cNvSpPr/>
          <p:nvPr/>
        </p:nvSpPr>
        <p:spPr>
          <a:xfrm>
            <a:off x="6629400" y="1981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dec9"/>
                </a:solidFill>
                <a:latin typeface="Times New Roman"/>
              </a:rPr>
              <a:t>Расход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WordArt 46"/>
          <p:cNvSpPr txBox="1"/>
          <p:nvPr/>
        </p:nvSpPr>
        <p:spPr>
          <a:xfrm>
            <a:off x="685800" y="3200400"/>
            <a:ext cx="2133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08 651,4</a:t>
            </a:r>
            <a:endParaRPr b="1" lang="en-US" sz="24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5" name="WordArt 47"/>
          <p:cNvSpPr txBox="1"/>
          <p:nvPr/>
        </p:nvSpPr>
        <p:spPr>
          <a:xfrm>
            <a:off x="3581280" y="5181480"/>
            <a:ext cx="2133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6 680,0</a:t>
            </a:r>
            <a:endParaRPr b="1" lang="en-US" sz="24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6" name="WordArt 48"/>
          <p:cNvSpPr txBox="1"/>
          <p:nvPr/>
        </p:nvSpPr>
        <p:spPr>
          <a:xfrm>
            <a:off x="6477120" y="2971800"/>
            <a:ext cx="2133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85 331,4</a:t>
            </a:r>
            <a:endParaRPr b="1" lang="en-US" sz="24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b80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9e9a"/>
                </a:solidFill>
                <a:latin typeface="Times New Roman"/>
              </a:rPr>
              <a:t>Исполнение бюдже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сполнение по дохода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сполнение по расхода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сточники финансирования дефици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униципальный долг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ополнительная информац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.  Исполнение по дохода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40" name="Object 100" descr=""/>
          <p:cNvPicPr/>
          <p:nvPr/>
        </p:nvPicPr>
        <p:blipFill>
          <a:blip r:embed="rId1"/>
          <a:stretch/>
        </p:blipFill>
        <p:spPr>
          <a:xfrm>
            <a:off x="5170320" y="1981080"/>
            <a:ext cx="29941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-55800"/>
            <a:ext cx="8610480" cy="975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0" bIns="0" anchor="ctr">
            <a:noAutofit/>
          </a:bodyPr>
          <a:p>
            <a:pPr marL="17906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Gill Sans MT"/>
              </a:rPr>
              <a:t>Из чего складываются доходы бюджета?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2" name="object 4"/>
          <p:cNvSpPr/>
          <p:nvPr/>
        </p:nvSpPr>
        <p:spPr>
          <a:xfrm>
            <a:off x="322200" y="1482840"/>
            <a:ext cx="1873440" cy="1407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object 6"/>
          <p:cNvSpPr/>
          <p:nvPr/>
        </p:nvSpPr>
        <p:spPr>
          <a:xfrm>
            <a:off x="971640" y="765000"/>
            <a:ext cx="576000" cy="649440"/>
          </a:xfrm>
          <a:custGeom>
            <a:avLst/>
            <a:gdLst>
              <a:gd name="textAreaLeft" fmla="*/ 0 w 576000"/>
              <a:gd name="textAreaRight" fmla="*/ 576360 w 576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576580" h="649605">
                <a:moveTo>
                  <a:pt x="0" y="487045"/>
                </a:moveTo>
                <a:lnTo>
                  <a:pt x="144068" y="487045"/>
                </a:lnTo>
                <a:lnTo>
                  <a:pt x="144068" y="0"/>
                </a:lnTo>
                <a:lnTo>
                  <a:pt x="432257" y="0"/>
                </a:lnTo>
                <a:lnTo>
                  <a:pt x="432257" y="487045"/>
                </a:lnTo>
                <a:lnTo>
                  <a:pt x="576275" y="487045"/>
                </a:lnTo>
                <a:lnTo>
                  <a:pt x="288124" y="649351"/>
                </a:lnTo>
                <a:lnTo>
                  <a:pt x="0" y="48704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object 7"/>
          <p:cNvSpPr/>
          <p:nvPr/>
        </p:nvSpPr>
        <p:spPr>
          <a:xfrm>
            <a:off x="2635200" y="906480"/>
            <a:ext cx="2689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1612800"/>
                <a:tab algn="l" pos="193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ющ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1612800"/>
                <a:tab algn="l" pos="193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АМИ БЮДЖЕ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object 8"/>
          <p:cNvSpPr/>
          <p:nvPr/>
        </p:nvSpPr>
        <p:spPr>
          <a:xfrm>
            <a:off x="5506920" y="90648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еж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object 9"/>
          <p:cNvSpPr/>
          <p:nvPr/>
        </p:nvSpPr>
        <p:spPr>
          <a:xfrm>
            <a:off x="6692760" y="906480"/>
            <a:ext cx="86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object 10"/>
          <p:cNvSpPr/>
          <p:nvPr/>
        </p:nvSpPr>
        <p:spPr>
          <a:xfrm>
            <a:off x="7737480" y="906480"/>
            <a:ext cx="93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object 11"/>
          <p:cNvSpPr/>
          <p:nvPr/>
        </p:nvSpPr>
        <p:spPr>
          <a:xfrm>
            <a:off x="2635200" y="1730520"/>
            <a:ext cx="60357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асть доходов граждан и организаций, которые они   обязаны   заплатить   государству   (например,   налог   на доходы   физических   лиц, налог на единый вмененный доход, единый сельскохозяйственный налог, государственная пошлина и др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object 12"/>
          <p:cNvSpPr/>
          <p:nvPr/>
        </p:nvSpPr>
        <p:spPr>
          <a:xfrm>
            <a:off x="1066680" y="3571920"/>
            <a:ext cx="753444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ЛОГОВЫЕ ДОХОД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латежи в виде штрафов, санкций за нарушение законодательства,   платежи   за   пользование   имуществом   муниципалитета,   средства самообложения гражда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2600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ЗМЕЗДНЫЕ ПОСТУПЛ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редства, которые поступают в бюджет безвозмездно   (денежные   средства,   поступающие   из   вышестоящего   бюджета (например,    дотация    из    областного    бюджета),    а    также    безвозмездные перечисления от физических и юридических лиц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object 13"/>
          <p:cNvSpPr/>
          <p:nvPr/>
        </p:nvSpPr>
        <p:spPr>
          <a:xfrm>
            <a:off x="690480" y="2347920"/>
            <a:ext cx="1104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1143000" y="914400"/>
          <a:ext cx="7162920" cy="2752560"/>
        </p:xfrm>
        <a:graphic>
          <a:graphicData uri="http://schemas.openxmlformats.org/drawingml/2006/table">
            <a:tbl>
              <a:tblPr/>
              <a:tblGrid>
                <a:gridCol w="2732040"/>
                <a:gridCol w="1592280"/>
                <a:gridCol w="1386000"/>
                <a:gridCol w="14526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Stencil"/>
                        </a:rPr>
                        <a:t>Наименование 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Stencil"/>
                        </a:rPr>
                        <a:t>Утвержденный пл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Stencil"/>
                        </a:rPr>
                        <a:t>Испол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Stencil"/>
                        </a:rPr>
                        <a:t>Процент ис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5436a"/>
                          </a:solidFill>
                          <a:latin typeface="Times New Roman"/>
                        </a:rPr>
                        <a:t>Доходы всего, в том числ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5436a"/>
                          </a:solidFill>
                          <a:latin typeface="Times New Roman"/>
                        </a:rPr>
                        <a:t>606 47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5436a"/>
                          </a:solidFill>
                          <a:latin typeface="Times New Roman"/>
                        </a:rPr>
                        <a:t>608 651,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5436a"/>
                          </a:solidFill>
                          <a:latin typeface="Times New Roman"/>
                        </a:rPr>
                        <a:t>10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5436a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5436a"/>
                          </a:solidFill>
                          <a:latin typeface="Times New Roman"/>
                        </a:rPr>
                        <a:t>85 3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5436a"/>
                          </a:solidFill>
                          <a:latin typeface="Times New Roman"/>
                        </a:rPr>
                        <a:t>87 18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5436a"/>
                          </a:solidFill>
                          <a:latin typeface="Times New Roman"/>
                        </a:rPr>
                        <a:t>10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5436a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5436a"/>
                          </a:solidFill>
                          <a:latin typeface="Times New Roman"/>
                        </a:rPr>
                        <a:t>45 0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5436a"/>
                          </a:solidFill>
                          <a:latin typeface="Times New Roman"/>
                        </a:rPr>
                        <a:t>46 00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5436a"/>
                          </a:solidFill>
                          <a:latin typeface="Times New Roman"/>
                        </a:rPr>
                        <a:t>10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5436a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5436a"/>
                          </a:solidFill>
                          <a:latin typeface="Times New Roman"/>
                        </a:rPr>
                        <a:t>476 14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5436a"/>
                          </a:solidFill>
                          <a:latin typeface="Times New Roman"/>
                        </a:rPr>
                        <a:t>475 45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5436a"/>
                          </a:solidFill>
                          <a:latin typeface="Times New Roman"/>
                        </a:rPr>
                        <a:t>9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2" name="Object 100" descr=""/>
          <p:cNvPicPr/>
          <p:nvPr/>
        </p:nvPicPr>
        <p:blipFill>
          <a:blip r:embed="rId1"/>
          <a:stretch/>
        </p:blipFill>
        <p:spPr>
          <a:xfrm>
            <a:off x="5170320" y="1981080"/>
            <a:ext cx="2994120" cy="1981440"/>
          </a:xfrm>
          <a:prstGeom prst="rect">
            <a:avLst/>
          </a:prstGeom>
          <a:ln w="0">
            <a:noFill/>
          </a:ln>
        </p:spPr>
      </p:pic>
      <p:pic>
        <p:nvPicPr>
          <p:cNvPr id="553" name="Object 108" descr=""/>
          <p:cNvPicPr/>
          <p:nvPr/>
        </p:nvPicPr>
        <p:blipFill>
          <a:blip r:embed="rId2"/>
          <a:stretch/>
        </p:blipFill>
        <p:spPr>
          <a:xfrm>
            <a:off x="1143000" y="4038480"/>
            <a:ext cx="8001000" cy="28195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111"/>
          <p:cNvSpPr/>
          <p:nvPr/>
        </p:nvSpPr>
        <p:spPr>
          <a:xfrm>
            <a:off x="1143000" y="228600"/>
            <a:ext cx="6553080" cy="459720"/>
          </a:xfrm>
          <a:prstGeom prst="rect">
            <a:avLst/>
          </a:prstGeom>
          <a:gradFill rotWithShape="0">
            <a:gsLst>
              <a:gs pos="0">
                <a:srgbClr val="3891a7"/>
              </a:gs>
              <a:gs pos="100000">
                <a:srgbClr val="1a43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Stencil"/>
              </a:rPr>
              <a:t>Структура доходов бюджета райо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uh2</cp:lastModifiedBy>
  <dcterms:modified xsi:type="dcterms:W3CDTF">2015-04-08T13:53:47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